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6.png" ContentType="image/png"/>
  <Override PartName="/ppt/media/image23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wmf" ContentType="image/x-wmf"/>
  <Override PartName="/ppt/media/image1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D981-1352-4210-B536-32CC93BCE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53760" y="43030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426D-35D9-47A7-BB06-79C2E9232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572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C925-6A46-4800-AC91-13D8FBF6B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140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0868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5376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140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0868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14D1-8351-480C-84AC-D0F9AFE45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5E9B-3BE5-4273-B50F-8D2C44C1FC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FB97-E6FB-406C-A324-C11E4CF0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5CF-B615-4C62-BAAC-4B22F3D7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527-DCAD-4B0A-A67C-41B41A6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D74-AE12-45EB-89D7-F7923F27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7240" y="103320"/>
            <a:ext cx="77709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2CB-5F5F-4162-8006-0320740A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F1B5-37E0-4EE1-8E4E-DB461D1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868F-CE91-43D9-9940-6FC3FB2F0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572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871D-1608-4059-A3BC-25AB7B3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9BF-A0F8-4933-958F-3AB89BE0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760" y="43030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19A-648E-4484-BCB5-A9614DF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572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098-EB5D-4F91-B956-671AF83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140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6552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5376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140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4303080"/>
            <a:ext cx="25020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357-4523-4310-9172-207590F31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D8AB-D706-48C2-BF06-DA2FF1ADC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F816-B63E-4AF0-AF12-47A0D1FD3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AB4E-A82E-4FB8-9EBB-DA9D17760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7240" y="103320"/>
            <a:ext cx="77709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09D0-71F0-4957-84E4-75CE61264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6A3A-F163-4F42-9D26-024BAAFA8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35720" y="43030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4763-09D5-498A-9525-9E4650F5F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376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720" y="1655280"/>
            <a:ext cx="37918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3760" y="4303080"/>
            <a:ext cx="7770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C1E5-76FA-407B-AD0D-9FB69348E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3760" y="1655280"/>
            <a:ext cx="7770600" cy="506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-15480" y="7058160"/>
            <a:ext cx="127728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6257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48560" y="1116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AC68-D316-4D53-B57D-F313F235ED0C}" type="slidenum">
              <a:rPr b="0" lang="en-US" sz="8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 of 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516640" y="6843600"/>
            <a:ext cx="3017880" cy="42840"/>
            <a:chOff x="5516640" y="6843600"/>
            <a:chExt cx="3017880" cy="42840"/>
          </a:xfrm>
        </p:grpSpPr>
        <p:sp>
          <p:nvSpPr>
            <p:cNvPr id="6" name=""/>
            <p:cNvSpPr/>
            <p:nvPr/>
          </p:nvSpPr>
          <p:spPr>
            <a:xfrm>
              <a:off x="5516640" y="6843600"/>
              <a:ext cx="3017880" cy="12600"/>
            </a:xfrm>
            <a:prstGeom prst="rect">
              <a:avLst/>
            </a:prstGeom>
            <a:gradFill rotWithShape="0">
              <a:gsLst>
                <a:gs pos="0">
                  <a:srgbClr val="4b2e00"/>
                </a:gs>
                <a:gs pos="50000">
                  <a:srgbClr val="fe9b03"/>
                </a:gs>
                <a:gs pos="100000">
                  <a:srgbClr val="4b2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516640" y="6873840"/>
              <a:ext cx="3017880" cy="12600"/>
            </a:xfrm>
            <a:prstGeom prst="rect">
              <a:avLst/>
            </a:prstGeom>
            <a:gradFill rotWithShape="0">
              <a:gsLst>
                <a:gs pos="0">
                  <a:srgbClr val="4b2e00"/>
                </a:gs>
                <a:gs pos="50000">
                  <a:srgbClr val="fe9b03"/>
                </a:gs>
                <a:gs pos="100000">
                  <a:srgbClr val="4b2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16640" y="6858000"/>
              <a:ext cx="3017880" cy="1260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5548320" y="6913440"/>
            <a:ext cx="311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Intelligence Information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236080" y="6369120"/>
            <a:ext cx="907920" cy="9126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5586480" y="6608880"/>
            <a:ext cx="308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Department of the Ar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9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812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68724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AF9-1998-4817-9654-B1350A7BCA03}" type="datetime3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5937-DDA6-498D-8768-CF586C5EA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3320" y="6808680"/>
            <a:ext cx="16491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UNCLASSIFI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hyperlink" Target="http://images.google.com/imgres?imgurl=inservice.ua.edu/tech/images/computer.jpg&amp;imgrefurl=http://inservice.ua.edu/tech/purpose.html&amp;h=179&amp;w=220&amp;sz=7&amp;tbnid=wVN8K5ToAQgJ:&amp;tbnh=82&amp;tbnw=100&amp;prev=/images%3Fq%3Dcomputer%2Bicon%26hl%3Den%26lr%3D%26ie%3DUTF-8%26oe%3DUTF-8%26sa%3DG" TargetMode="External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52320" y="177120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Providing Timely 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and Relevant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Intelligence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Information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to the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Army  &amp; 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Intelligence 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Verdana"/>
              </a:rPr>
              <a:t>Community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65040" y="102960"/>
            <a:ext cx="853920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Department of the Army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Intelligence Information Services</a:t>
            </a:r>
            <a:endParaRPr b="1" i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7520" y="1735200"/>
            <a:ext cx="4822560" cy="455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E3CC-8EF9-4B57-B79D-BC4CAC4B4AAF}" type="slidenum">
              <a:t>1</a:t>
            </a:fld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92680" y="1776240"/>
            <a:ext cx="51242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ecure web based CO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ccess to sensitive CIA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Requires registered PKI Certifi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129120"/>
            <a:ext cx="529272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National level dissemination web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Collaborative environment to share terrorist threats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lso, requires registered PKI Ce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840" y="1150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3880" y="4644720"/>
            <a:ext cx="8043840" cy="12927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ess to these COIs are limited to individuals whose organ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ve a valid "need to know" for the information contain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more information visit our web pages at: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http://dadpm.inscom.ic.gov/dissem/dlac</a:t>
            </a:r>
            <a:r>
              <a:rPr b="0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http://dadpm.inscom.army.smil.mil/dissem/dlac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60160" y="-360"/>
            <a:ext cx="7770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CIASource &amp; NCTC Online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06360" y="1671480"/>
            <a:ext cx="3381480" cy="1122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8" descr=""/>
          <p:cNvPicPr/>
          <p:nvPr/>
        </p:nvPicPr>
        <p:blipFill>
          <a:blip r:embed="rId2"/>
          <a:stretch/>
        </p:blipFill>
        <p:spPr>
          <a:xfrm>
            <a:off x="5337000" y="3255840"/>
            <a:ext cx="3257640" cy="1028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58640" y="6118200"/>
            <a:ext cx="78440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DoDIIS PKI enables access to other Communities of Interest (COI) that are PKI enabled… For example, DASO Accounts, JITF-CT CTKB, WISE, iCI, JCE/IWS, NSRP, Scattered Castles and mor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4FA4-3E34-412F-B664-9785EE0F9235}" type="slidenum">
              <a:t>10</a:t>
            </a:fld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62000" y="1525680"/>
            <a:ext cx="791352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The Open Source Information System (OSIS) is a virtual private network—a government intrane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It provides a protected environment to exchange unclassified or FOUO/SBU US Government and other open source data among the Intelligence Community and other selected organizatio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OSIS also provides access to selected commercial data such as Janes, EIU,Oxford Analytica, and EBSCOh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Offers a degree of anonymity over the Internet/NIPRNET…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users can only be traced back to an OSIS.GOV add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OSIS Remote Access (RA) gives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those in an information poor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environment the ability to get to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important IC and other information—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essential to mission accomplis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Any Army employee: military,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government, or contractor can obtain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sponsored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The Open Source Information System (OSIS)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35900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12" descr=""/>
          <p:cNvPicPr/>
          <p:nvPr/>
        </p:nvPicPr>
        <p:blipFill>
          <a:blip r:embed="rId1"/>
          <a:stretch/>
        </p:blipFill>
        <p:spPr>
          <a:xfrm>
            <a:off x="5445000" y="4349880"/>
            <a:ext cx="3354480" cy="189540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308" name=""/>
          <p:cNvSpPr/>
          <p:nvPr/>
        </p:nvSpPr>
        <p:spPr>
          <a:xfrm>
            <a:off x="1055520" y="6526080"/>
            <a:ext cx="4211640" cy="4410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For more information, visit our AKO site—</a:t>
            </a:r>
            <a:br>
              <a:rPr sz="1200"/>
            </a:br>
            <a:r>
              <a:rPr b="1" lang="en-US" sz="1200" spc="-1" strike="noStrike" u="sng">
                <a:solidFill>
                  <a:srgbClr val="0000ff"/>
                </a:solidFill>
                <a:uFillTx/>
                <a:latin typeface="Trebuchet MS"/>
              </a:rPr>
              <a:t>https://www.us.army.mil/suite/page/13228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C6F7-151B-4F7E-8CDB-77C95905015B}" type="slidenum">
              <a:t>11</a:t>
            </a:fld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71520" y="1338120"/>
            <a:ext cx="76183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xecutes DoD policy and procedures under DoD Intelligence Production Program (DoDIPP/DIA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nsures Army customers obtain new intelligence production from DIA, Service National Production Centers, and Joint Intelligence Cen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Researches and validates Army DoDIPP Intelligence Production Require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Oversees and manages the Army’s access and training to Community On-Line Intelligence System for End Users and Managers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7240" y="-10044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Intelligence Production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Picture 11" descr=""/>
          <p:cNvPicPr/>
          <p:nvPr/>
        </p:nvPicPr>
        <p:blipFill>
          <a:blip r:embed="rId1"/>
          <a:stretch/>
        </p:blipFill>
        <p:spPr>
          <a:xfrm>
            <a:off x="654120" y="4978440"/>
            <a:ext cx="7770600" cy="1144440"/>
          </a:xfrm>
          <a:prstGeom prst="rect">
            <a:avLst/>
          </a:prstGeom>
          <a:ln w="76320">
            <a:solidFill>
              <a:srgbClr val="6666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D851-41EB-4195-8EDD-14482BCF6A03}" type="slidenum">
              <a:t>12</a:t>
            </a:fld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91800" y="1411200"/>
            <a:ext cx="6489720" cy="477216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anages for Army units: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A Compartmented Address Book (CAB) accou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tatement of Intel Interests (SII) accou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Reading Requirements/Message traffic profile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Request SCI/Collateral Message Addresse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SSCS Address Groups (DAGs)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NSA SIGINT End Products (SEP) Accou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NGA National Exploitation System (NES) profile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ccess to CIASource / NCTC Online / iCI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anage access to Army SIPRNET M3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ccess to DoD Secure COI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COLISEUM Production Requireme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oDIIS PKI Trusted Agent Training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rmy OSIS Access Account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52560" y="65160"/>
            <a:ext cx="6881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Daily Operation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31200" y="527040"/>
            <a:ext cx="3418560" cy="5875200"/>
            <a:chOff x="5731200" y="527040"/>
            <a:chExt cx="3418560" cy="5875200"/>
          </a:xfrm>
        </p:grpSpPr>
        <p:sp>
          <p:nvSpPr>
            <p:cNvPr id="316" name=""/>
            <p:cNvSpPr/>
            <p:nvPr/>
          </p:nvSpPr>
          <p:spPr>
            <a:xfrm flipH="1" rot="20517600">
              <a:off x="5892120" y="4794480"/>
              <a:ext cx="2947680" cy="608760"/>
            </a:xfrm>
            <a:custGeom>
              <a:avLst/>
              <a:gdLst>
                <a:gd name="textAreaLeft" fmla="*/ 360 w 2947680"/>
                <a:gd name="textAreaRight" fmla="*/ 2948400 w 294768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0066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CAB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S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rot="182400">
              <a:off x="5741640" y="2622960"/>
              <a:ext cx="2948040" cy="479160"/>
            </a:xfrm>
            <a:custGeom>
              <a:avLst/>
              <a:gdLst>
                <a:gd name="textAreaLeft" fmla="*/ -360 w 2948040"/>
                <a:gd name="textAreaRight" fmla="*/ 2948040 w 29480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MADS           S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7282800" y="527040"/>
              <a:ext cx="680400" cy="5875200"/>
              <a:chOff x="7282800" y="527040"/>
              <a:chExt cx="680400" cy="5875200"/>
            </a:xfrm>
          </p:grpSpPr>
          <p:sp>
            <p:nvSpPr>
              <p:cNvPr id="319" name=""/>
              <p:cNvSpPr/>
              <p:nvPr/>
            </p:nvSpPr>
            <p:spPr>
              <a:xfrm>
                <a:off x="7282800" y="527040"/>
                <a:ext cx="680400" cy="5875200"/>
              </a:xfrm>
              <a:custGeom>
                <a:avLst/>
                <a:gdLst/>
                <a:ahLst/>
                <a:rect l="l" t="t" r="r" b="b"/>
                <a:pathLst>
                  <a:path w="433" h="3702">
                    <a:moveTo>
                      <a:pt x="0" y="96"/>
                    </a:moveTo>
                    <a:lnTo>
                      <a:pt x="193" y="0"/>
                    </a:lnTo>
                    <a:lnTo>
                      <a:pt x="433" y="96"/>
                    </a:lnTo>
                    <a:lnTo>
                      <a:pt x="433" y="3654"/>
                    </a:lnTo>
                    <a:lnTo>
                      <a:pt x="193" y="3702"/>
                    </a:lnTo>
                    <a:lnTo>
                      <a:pt x="0" y="360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82800" y="527040"/>
                <a:ext cx="302040" cy="5875200"/>
              </a:xfrm>
              <a:custGeom>
                <a:avLst/>
                <a:gdLst/>
                <a:ahLst/>
                <a:rect l="l" t="t" r="r" b="b"/>
                <a:pathLst>
                  <a:path w="193" h="3702">
                    <a:moveTo>
                      <a:pt x="0" y="96"/>
                    </a:moveTo>
                    <a:lnTo>
                      <a:pt x="193" y="0"/>
                    </a:lnTo>
                    <a:lnTo>
                      <a:pt x="193" y="3702"/>
                    </a:lnTo>
                    <a:lnTo>
                      <a:pt x="0" y="360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rot="510600">
              <a:off x="6500160" y="2134440"/>
              <a:ext cx="2624400" cy="532800"/>
            </a:xfrm>
            <a:custGeom>
              <a:avLst/>
              <a:gdLst>
                <a:gd name="textAreaLeft" fmla="*/ 0 w 2624400"/>
                <a:gd name="textAreaRight" fmla="*/ 2624760 w 2624400"/>
                <a:gd name="textAreaTop" fmla="*/ 0 h 532800"/>
                <a:gd name="textAreaBottom" fmla="*/ 533160 h 53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cccc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A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rot="656400">
              <a:off x="6322320" y="834120"/>
              <a:ext cx="2477880" cy="533160"/>
            </a:xfrm>
            <a:custGeom>
              <a:avLst/>
              <a:gdLst>
                <a:gd name="textAreaLeft" fmla="*/ -360 w 2477880"/>
                <a:gd name="textAreaRight" fmla="*/ 2477880 w 24778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66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663300"/>
                  </a:solidFill>
                  <a:latin typeface="Times New Roman"/>
                </a:rPr>
                <a:t>COLISEU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21291000">
              <a:off x="6467760" y="3962880"/>
              <a:ext cx="2606040" cy="539280"/>
            </a:xfrm>
            <a:custGeom>
              <a:avLst/>
              <a:gdLst>
                <a:gd name="textAreaLeft" fmla="*/ 0 w 2606040"/>
                <a:gd name="textAreaRight" fmla="*/ 2606400 w 260604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66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IGINT MAR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rot="21132000">
              <a:off x="6218280" y="1648440"/>
              <a:ext cx="2453040" cy="498240"/>
            </a:xfrm>
            <a:custGeom>
              <a:avLst/>
              <a:gdLst>
                <a:gd name="textAreaLeft" fmla="*/ 360 w 2453040"/>
                <a:gd name="textAreaRight" fmla="*/ 2453760 w 245304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IA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ou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567600">
              <a:off x="6467760" y="3306960"/>
              <a:ext cx="2606040" cy="539280"/>
            </a:xfrm>
            <a:custGeom>
              <a:avLst/>
              <a:gdLst>
                <a:gd name="textAreaLeft" fmla="*/ 0 w 2606040"/>
                <a:gd name="textAreaRight" fmla="*/ 2606400 w 260604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7c80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</a:rPr>
                <a:t>NCTC Onl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-12600" y="1053720"/>
            <a:ext cx="6350040" cy="126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9891-6B68-4F57-A140-714EEFB31FCC}" type="slidenum">
              <a:t>13</a:t>
            </a:fld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80880" y="1665360"/>
            <a:ext cx="5562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aintains over 40,000 web pages with over 100,000 external lin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ponsors web / portal sites to support customers w/o resources or skills to maintain their own 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Facilitates over 60 sponsored webs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Conducts field site assistance vis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Provides Tailored Mobile 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Implements hardware/software strategies that will increase the quality of customer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Participates in key conferences, meetings, exercises, and Ad Hoc requests for 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11160" y="6516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Daily Operations </a:t>
            </a:r>
            <a:br>
              <a:rPr sz="3600"/>
            </a:b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(Continued)</a:t>
            </a:r>
            <a:endParaRPr b="1" i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771160" y="623880"/>
            <a:ext cx="3380760" cy="5875200"/>
            <a:chOff x="5771160" y="623880"/>
            <a:chExt cx="3380760" cy="5875200"/>
          </a:xfrm>
        </p:grpSpPr>
        <p:grpSp>
          <p:nvGrpSpPr>
            <p:cNvPr id="330" name=""/>
            <p:cNvGrpSpPr/>
            <p:nvPr/>
          </p:nvGrpSpPr>
          <p:grpSpPr>
            <a:xfrm>
              <a:off x="5771160" y="623880"/>
              <a:ext cx="3143880" cy="5875200"/>
              <a:chOff x="5771160" y="623880"/>
              <a:chExt cx="3143880" cy="5875200"/>
            </a:xfrm>
          </p:grpSpPr>
          <p:sp>
            <p:nvSpPr>
              <p:cNvPr id="331" name=""/>
              <p:cNvSpPr/>
              <p:nvPr/>
            </p:nvSpPr>
            <p:spPr>
              <a:xfrm flipH="1" rot="114600">
                <a:off x="5777640" y="4746600"/>
                <a:ext cx="2133360" cy="457200"/>
              </a:xfrm>
              <a:custGeom>
                <a:avLst/>
                <a:gdLst>
                  <a:gd name="textAreaLeft" fmla="*/ 360 w 2133360"/>
                  <a:gd name="textAreaRight" fmla="*/ 2134080 w 213336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ffcc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 </a:t>
                </a: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MDD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20026200">
                <a:off x="5926320" y="3210480"/>
                <a:ext cx="2594160" cy="456840"/>
              </a:xfrm>
              <a:custGeom>
                <a:avLst/>
                <a:gdLst>
                  <a:gd name="textAreaLeft" fmla="*/ 360 w 2594160"/>
                  <a:gd name="textAreaRight" fmla="*/ 2594880 w 259416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9933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DS            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 rot="21348600">
                <a:off x="5926680" y="2689920"/>
                <a:ext cx="2594160" cy="456480"/>
              </a:xfrm>
              <a:custGeom>
                <a:avLst/>
                <a:gdLst>
                  <a:gd name="textAreaLeft" fmla="*/ 360 w 2594160"/>
                  <a:gd name="textAreaRight" fmla="*/ 2594880 w 259416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ffcc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MHS           M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5920" y="623880"/>
                <a:ext cx="689040" cy="5875200"/>
              </a:xfrm>
              <a:custGeom>
                <a:avLst/>
                <a:gdLst/>
                <a:ahLst/>
                <a:rect l="l" t="t" r="r" b="b"/>
                <a:pathLst>
                  <a:path w="433" h="3702">
                    <a:moveTo>
                      <a:pt x="0" y="96"/>
                    </a:moveTo>
                    <a:lnTo>
                      <a:pt x="193" y="0"/>
                    </a:lnTo>
                    <a:lnTo>
                      <a:pt x="433" y="96"/>
                    </a:lnTo>
                    <a:lnTo>
                      <a:pt x="433" y="3654"/>
                    </a:lnTo>
                    <a:lnTo>
                      <a:pt x="193" y="3702"/>
                    </a:lnTo>
                    <a:lnTo>
                      <a:pt x="0" y="360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224480" y="623880"/>
                <a:ext cx="304560" cy="5875200"/>
              </a:xfrm>
              <a:custGeom>
                <a:avLst/>
                <a:gdLst/>
                <a:ahLst/>
                <a:rect l="l" t="t" r="r" b="b"/>
                <a:pathLst>
                  <a:path w="193" h="3702">
                    <a:moveTo>
                      <a:pt x="0" y="96"/>
                    </a:moveTo>
                    <a:lnTo>
                      <a:pt x="193" y="0"/>
                    </a:lnTo>
                    <a:lnTo>
                      <a:pt x="193" y="3702"/>
                    </a:lnTo>
                    <a:lnTo>
                      <a:pt x="0" y="360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447000">
                <a:off x="6996960" y="4365720"/>
                <a:ext cx="1447920" cy="456840"/>
              </a:xfrm>
              <a:custGeom>
                <a:avLst/>
                <a:gdLst>
                  <a:gd name="textAreaLeft" fmla="*/ 0 w 1447920"/>
                  <a:gd name="textAreaRight" fmla="*/ 1448280 w 144792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00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OSI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0835600">
                <a:off x="6694200" y="5051520"/>
                <a:ext cx="2057400" cy="456840"/>
              </a:xfrm>
              <a:custGeom>
                <a:avLst/>
                <a:gdLst>
                  <a:gd name="textAreaLeft" fmla="*/ 0 w 2057400"/>
                  <a:gd name="textAreaRight" fmla="*/ 2057400 w 205740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5050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b2b2b2"/>
                    </a:solidFill>
                    <a:latin typeface="Times New Roman"/>
                  </a:rPr>
                  <a:t>AKO/AKO-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209400">
                <a:off x="6387840" y="1547280"/>
                <a:ext cx="2060640" cy="456480"/>
              </a:xfrm>
              <a:custGeom>
                <a:avLst/>
                <a:gdLst>
                  <a:gd name="textAreaLeft" fmla="*/ 360 w 2060640"/>
                  <a:gd name="textAreaRight" fmla="*/ 2061360 w 2060640"/>
                  <a:gd name="textAreaTop" fmla="*/ 0 h 456480"/>
                  <a:gd name="textAreaBottom" fmla="*/ 456840 h 45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333300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DCS  G-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986200">
                <a:off x="6149520" y="3826440"/>
                <a:ext cx="2740320" cy="529920"/>
              </a:xfrm>
              <a:custGeom>
                <a:avLst/>
                <a:gdLst>
                  <a:gd name="textAreaLeft" fmla="*/ 0 w 2740320"/>
                  <a:gd name="textAreaRight" fmla="*/ 2740680 w 2740320"/>
                  <a:gd name="textAreaTop" fmla="*/ 0 h 529920"/>
                  <a:gd name="textAreaBottom" fmla="*/ 530280 h 529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66"/>
              </a:solidFill>
              <a:ln cap="sq" w="1260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rot="264600">
              <a:off x="6616440" y="2156760"/>
              <a:ext cx="2438280" cy="456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9999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9900"/>
                  </a:solidFill>
                  <a:latin typeface="Times New Roman"/>
                </a:rPr>
                <a:t>IDC Por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21033600">
              <a:off x="6692760" y="980280"/>
              <a:ext cx="2438280" cy="456840"/>
            </a:xfrm>
            <a:custGeom>
              <a:avLst/>
              <a:gdLst>
                <a:gd name="textAreaLeft" fmla="*/ 0 w 2438280"/>
                <a:gd name="textAreaRight" fmla="*/ 2438640 w 243828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Web Pag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V="1">
            <a:off x="-12600" y="1206360"/>
            <a:ext cx="6350040" cy="1296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24840" bIns="-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CAB4-B7AB-47F8-B68C-8EF016E9AB6B}" type="slidenum">
              <a:t>14</a:t>
            </a:fld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02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nsite Assist Visit</a:t>
            </a:r>
            <a:br>
              <a:rPr sz="3600"/>
            </a:br>
            <a:r>
              <a:rPr b="1" i="1" lang="en-US" sz="1800" spc="-1" strike="noStrike">
                <a:solidFill>
                  <a:srgbClr val="ffff00"/>
                </a:solidFill>
                <a:latin typeface="Verdana"/>
              </a:rPr>
              <a:t>(68+ and counting…)</a:t>
            </a:r>
            <a:r>
              <a:rPr b="0" i="1" lang="en-US" sz="2400" spc="-1" strike="noStrike" u="sng">
                <a:solidFill>
                  <a:srgbClr val="ffff66"/>
                </a:solidFill>
                <a:uFillTx/>
                <a:latin typeface="Verdana"/>
              </a:rPr>
              <a:t> </a:t>
            </a: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127080" y="5676840"/>
            <a:ext cx="1218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Other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nama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apan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Korea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Hawaii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as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838080" y="2076480"/>
            <a:ext cx="7149960" cy="4025880"/>
            <a:chOff x="838080" y="2076480"/>
            <a:chExt cx="7149960" cy="4025880"/>
          </a:xfrm>
        </p:grpSpPr>
        <p:sp>
          <p:nvSpPr>
            <p:cNvPr id="346" name=""/>
            <p:cNvSpPr/>
            <p:nvPr/>
          </p:nvSpPr>
          <p:spPr>
            <a:xfrm>
              <a:off x="3873240" y="4667040"/>
              <a:ext cx="152280" cy="1526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90960" y="4095720"/>
              <a:ext cx="1125360" cy="430200"/>
            </a:xfrm>
            <a:custGeom>
              <a:avLst/>
              <a:gdLst/>
              <a:ahLst/>
              <a:rect l="l" t="t" r="r" b="b"/>
              <a:pathLst>
                <a:path w="601" h="234">
                  <a:moveTo>
                    <a:pt x="194" y="0"/>
                  </a:moveTo>
                  <a:lnTo>
                    <a:pt x="575" y="0"/>
                  </a:lnTo>
                  <a:lnTo>
                    <a:pt x="601" y="72"/>
                  </a:lnTo>
                  <a:lnTo>
                    <a:pt x="535" y="143"/>
                  </a:lnTo>
                  <a:lnTo>
                    <a:pt x="440" y="173"/>
                  </a:lnTo>
                  <a:lnTo>
                    <a:pt x="402" y="234"/>
                  </a:lnTo>
                  <a:lnTo>
                    <a:pt x="309" y="133"/>
                  </a:lnTo>
                  <a:lnTo>
                    <a:pt x="235" y="133"/>
                  </a:lnTo>
                  <a:lnTo>
                    <a:pt x="222" y="113"/>
                  </a:lnTo>
                  <a:lnTo>
                    <a:pt x="122" y="113"/>
                  </a:lnTo>
                  <a:lnTo>
                    <a:pt x="85" y="147"/>
                  </a:lnTo>
                  <a:lnTo>
                    <a:pt x="0" y="147"/>
                  </a:lnTo>
                  <a:lnTo>
                    <a:pt x="16" y="104"/>
                  </a:lnTo>
                  <a:lnTo>
                    <a:pt x="186" y="34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51440" y="2666880"/>
              <a:ext cx="335160" cy="541440"/>
            </a:xfrm>
            <a:custGeom>
              <a:avLst/>
              <a:gdLst/>
              <a:ahLst/>
              <a:rect l="l" t="t" r="r" b="b"/>
              <a:pathLst>
                <a:path w="179" h="294">
                  <a:moveTo>
                    <a:pt x="179" y="0"/>
                  </a:moveTo>
                  <a:lnTo>
                    <a:pt x="0" y="139"/>
                  </a:lnTo>
                  <a:lnTo>
                    <a:pt x="0" y="294"/>
                  </a:lnTo>
                  <a:lnTo>
                    <a:pt x="179" y="157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27600" y="2922480"/>
              <a:ext cx="123840" cy="407880"/>
            </a:xfrm>
            <a:custGeom>
              <a:avLst/>
              <a:gdLst/>
              <a:ahLst/>
              <a:rect l="l" t="t" r="r" b="b"/>
              <a:pathLst>
                <a:path w="66" h="221">
                  <a:moveTo>
                    <a:pt x="0" y="63"/>
                  </a:moveTo>
                  <a:lnTo>
                    <a:pt x="58" y="28"/>
                  </a:lnTo>
                  <a:lnTo>
                    <a:pt x="66" y="0"/>
                  </a:lnTo>
                  <a:lnTo>
                    <a:pt x="66" y="153"/>
                  </a:lnTo>
                  <a:lnTo>
                    <a:pt x="58" y="191"/>
                  </a:lnTo>
                  <a:lnTo>
                    <a:pt x="0" y="22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02400" y="3120840"/>
              <a:ext cx="41040" cy="106560"/>
            </a:xfrm>
            <a:custGeom>
              <a:avLst/>
              <a:gdLst/>
              <a:ahLst/>
              <a:rect l="l" t="t" r="r" b="b"/>
              <a:pathLst>
                <a:path w="22" h="58">
                  <a:moveTo>
                    <a:pt x="22" y="0"/>
                  </a:moveTo>
                  <a:lnTo>
                    <a:pt x="0" y="22"/>
                  </a:lnTo>
                  <a:lnTo>
                    <a:pt x="22" y="5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38840" y="2922480"/>
              <a:ext cx="12600" cy="349200"/>
            </a:xfrm>
            <a:custGeom>
              <a:avLst/>
              <a:gdLst/>
              <a:ahLst/>
              <a:rect l="l" t="t" r="r" b="b"/>
              <a:pathLst>
                <a:path w="7" h="189">
                  <a:moveTo>
                    <a:pt x="6" y="0"/>
                  </a:moveTo>
                  <a:lnTo>
                    <a:pt x="0" y="30"/>
                  </a:lnTo>
                  <a:lnTo>
                    <a:pt x="0" y="189"/>
                  </a:lnTo>
                  <a:lnTo>
                    <a:pt x="7" y="15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76440" y="5046480"/>
              <a:ext cx="90720" cy="314280"/>
            </a:xfrm>
            <a:custGeom>
              <a:avLst/>
              <a:gdLst/>
              <a:ahLst/>
              <a:rect l="l" t="t" r="r" b="b"/>
              <a:pathLst>
                <a:path w="48" h="171">
                  <a:moveTo>
                    <a:pt x="0" y="30"/>
                  </a:moveTo>
                  <a:lnTo>
                    <a:pt x="22" y="97"/>
                  </a:lnTo>
                  <a:lnTo>
                    <a:pt x="22" y="171"/>
                  </a:lnTo>
                  <a:lnTo>
                    <a:pt x="48" y="153"/>
                  </a:lnTo>
                  <a:lnTo>
                    <a:pt x="4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67160" y="5035320"/>
              <a:ext cx="282600" cy="292320"/>
            </a:xfrm>
            <a:custGeom>
              <a:avLst/>
              <a:gdLst/>
              <a:ahLst/>
              <a:rect l="l" t="t" r="r" b="b"/>
              <a:pathLst>
                <a:path w="151" h="159">
                  <a:moveTo>
                    <a:pt x="0" y="6"/>
                  </a:moveTo>
                  <a:lnTo>
                    <a:pt x="64" y="0"/>
                  </a:lnTo>
                  <a:lnTo>
                    <a:pt x="151" y="0"/>
                  </a:lnTo>
                  <a:lnTo>
                    <a:pt x="151" y="155"/>
                  </a:lnTo>
                  <a:lnTo>
                    <a:pt x="64" y="155"/>
                  </a:lnTo>
                  <a:lnTo>
                    <a:pt x="0" y="15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54440" y="5038560"/>
              <a:ext cx="133200" cy="399960"/>
            </a:xfrm>
            <a:custGeom>
              <a:avLst/>
              <a:gdLst/>
              <a:ahLst/>
              <a:rect l="l" t="t" r="r" b="b"/>
              <a:pathLst>
                <a:path w="71" h="217">
                  <a:moveTo>
                    <a:pt x="0" y="0"/>
                  </a:moveTo>
                  <a:lnTo>
                    <a:pt x="0" y="153"/>
                  </a:lnTo>
                  <a:lnTo>
                    <a:pt x="71" y="217"/>
                  </a:lnTo>
                  <a:lnTo>
                    <a:pt x="71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87640" y="5113080"/>
              <a:ext cx="163800" cy="320760"/>
            </a:xfrm>
            <a:custGeom>
              <a:avLst/>
              <a:gdLst/>
              <a:ahLst/>
              <a:rect l="l" t="t" r="r" b="b"/>
              <a:pathLst>
                <a:path w="88" h="175">
                  <a:moveTo>
                    <a:pt x="0" y="22"/>
                  </a:moveTo>
                  <a:lnTo>
                    <a:pt x="88" y="0"/>
                  </a:lnTo>
                  <a:lnTo>
                    <a:pt x="88" y="155"/>
                  </a:lnTo>
                  <a:lnTo>
                    <a:pt x="0" y="17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62320" y="5391000"/>
              <a:ext cx="108000" cy="444600"/>
            </a:xfrm>
            <a:custGeom>
              <a:avLst/>
              <a:gdLst/>
              <a:ahLst/>
              <a:rect l="l" t="t" r="r" b="b"/>
              <a:pathLst>
                <a:path w="57" h="242">
                  <a:moveTo>
                    <a:pt x="0" y="0"/>
                  </a:moveTo>
                  <a:lnTo>
                    <a:pt x="57" y="86"/>
                  </a:lnTo>
                  <a:lnTo>
                    <a:pt x="57" y="242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1440" y="5113080"/>
              <a:ext cx="139680" cy="405000"/>
            </a:xfrm>
            <a:custGeom>
              <a:avLst/>
              <a:gdLst/>
              <a:ahLst/>
              <a:rect l="l" t="t" r="r" b="b"/>
              <a:pathLst>
                <a:path w="74" h="220">
                  <a:moveTo>
                    <a:pt x="0" y="0"/>
                  </a:moveTo>
                  <a:lnTo>
                    <a:pt x="74" y="79"/>
                  </a:lnTo>
                  <a:lnTo>
                    <a:pt x="58" y="151"/>
                  </a:lnTo>
                  <a:lnTo>
                    <a:pt x="58" y="220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89320" y="5151240"/>
              <a:ext cx="288720" cy="501840"/>
            </a:xfrm>
            <a:custGeom>
              <a:avLst/>
              <a:gdLst/>
              <a:ahLst/>
              <a:rect l="l" t="t" r="r" b="b"/>
              <a:pathLst>
                <a:path w="155" h="273">
                  <a:moveTo>
                    <a:pt x="14" y="273"/>
                  </a:moveTo>
                  <a:lnTo>
                    <a:pt x="0" y="187"/>
                  </a:lnTo>
                  <a:lnTo>
                    <a:pt x="32" y="99"/>
                  </a:lnTo>
                  <a:lnTo>
                    <a:pt x="155" y="0"/>
                  </a:lnTo>
                  <a:lnTo>
                    <a:pt x="155" y="153"/>
                  </a:lnTo>
                  <a:lnTo>
                    <a:pt x="34" y="250"/>
                  </a:lnTo>
                  <a:lnTo>
                    <a:pt x="14" y="273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78040" y="5106960"/>
              <a:ext cx="163440" cy="322200"/>
            </a:xfrm>
            <a:custGeom>
              <a:avLst/>
              <a:gdLst/>
              <a:ahLst/>
              <a:rect l="l" t="t" r="r" b="b"/>
              <a:pathLst>
                <a:path w="87" h="175">
                  <a:moveTo>
                    <a:pt x="0" y="24"/>
                  </a:moveTo>
                  <a:lnTo>
                    <a:pt x="0" y="175"/>
                  </a:lnTo>
                  <a:lnTo>
                    <a:pt x="87" y="153"/>
                  </a:lnTo>
                  <a:lnTo>
                    <a:pt x="87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41480" y="5106960"/>
              <a:ext cx="328680" cy="39528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0" y="0"/>
                  </a:moveTo>
                  <a:lnTo>
                    <a:pt x="175" y="62"/>
                  </a:lnTo>
                  <a:lnTo>
                    <a:pt x="175" y="215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70160" y="5221080"/>
              <a:ext cx="250920" cy="292320"/>
            </a:xfrm>
            <a:custGeom>
              <a:avLst/>
              <a:gdLst/>
              <a:ahLst/>
              <a:rect l="l" t="t" r="r" b="b"/>
              <a:pathLst>
                <a:path w="135" h="159">
                  <a:moveTo>
                    <a:pt x="0" y="0"/>
                  </a:moveTo>
                  <a:lnTo>
                    <a:pt x="0" y="153"/>
                  </a:lnTo>
                  <a:lnTo>
                    <a:pt x="135" y="159"/>
                  </a:lnTo>
                  <a:lnTo>
                    <a:pt x="13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64000" y="5676840"/>
              <a:ext cx="142920" cy="415800"/>
            </a:xfrm>
            <a:custGeom>
              <a:avLst/>
              <a:gdLst/>
              <a:ahLst/>
              <a:rect l="l" t="t" r="r" b="b"/>
              <a:pathLst>
                <a:path w="76" h="226">
                  <a:moveTo>
                    <a:pt x="0" y="73"/>
                  </a:moveTo>
                  <a:lnTo>
                    <a:pt x="76" y="0"/>
                  </a:lnTo>
                  <a:lnTo>
                    <a:pt x="76" y="152"/>
                  </a:lnTo>
                  <a:lnTo>
                    <a:pt x="0" y="226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68880" y="5549760"/>
              <a:ext cx="44280" cy="287280"/>
            </a:xfrm>
            <a:custGeom>
              <a:avLst/>
              <a:gdLst/>
              <a:ahLst/>
              <a:rect l="l" t="t" r="r" b="b"/>
              <a:pathLst>
                <a:path w="24" h="156">
                  <a:moveTo>
                    <a:pt x="0" y="0"/>
                  </a:moveTo>
                  <a:lnTo>
                    <a:pt x="0" y="156"/>
                  </a:lnTo>
                  <a:lnTo>
                    <a:pt x="24" y="156"/>
                  </a:lnTo>
                  <a:lnTo>
                    <a:pt x="2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51320" y="5811840"/>
              <a:ext cx="112680" cy="2887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4"/>
                  </a:moveTo>
                  <a:lnTo>
                    <a:pt x="61" y="0"/>
                  </a:lnTo>
                  <a:lnTo>
                    <a:pt x="61" y="151"/>
                  </a:lnTo>
                  <a:lnTo>
                    <a:pt x="0" y="15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11720" y="5553000"/>
              <a:ext cx="39600" cy="549360"/>
            </a:xfrm>
            <a:custGeom>
              <a:avLst/>
              <a:gdLst/>
              <a:ahLst/>
              <a:rect l="l" t="t" r="r" b="b"/>
              <a:pathLst>
                <a:path w="21" h="299">
                  <a:moveTo>
                    <a:pt x="0" y="0"/>
                  </a:moveTo>
                  <a:lnTo>
                    <a:pt x="21" y="149"/>
                  </a:lnTo>
                  <a:lnTo>
                    <a:pt x="21" y="299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64000" y="4690800"/>
              <a:ext cx="120600" cy="325440"/>
            </a:xfrm>
            <a:custGeom>
              <a:avLst/>
              <a:gdLst/>
              <a:ahLst/>
              <a:rect l="l" t="t" r="r" b="b"/>
              <a:pathLst>
                <a:path w="64" h="177">
                  <a:moveTo>
                    <a:pt x="0" y="22"/>
                  </a:moveTo>
                  <a:lnTo>
                    <a:pt x="64" y="0"/>
                  </a:lnTo>
                  <a:lnTo>
                    <a:pt x="64" y="155"/>
                  </a:lnTo>
                  <a:lnTo>
                    <a:pt x="0" y="177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84600" y="4527360"/>
              <a:ext cx="158760" cy="452520"/>
            </a:xfrm>
            <a:custGeom>
              <a:avLst/>
              <a:gdLst/>
              <a:ahLst/>
              <a:rect l="l" t="t" r="r" b="b"/>
              <a:pathLst>
                <a:path w="85" h="246">
                  <a:moveTo>
                    <a:pt x="0" y="89"/>
                  </a:moveTo>
                  <a:lnTo>
                    <a:pt x="85" y="0"/>
                  </a:lnTo>
                  <a:lnTo>
                    <a:pt x="85" y="156"/>
                  </a:lnTo>
                  <a:lnTo>
                    <a:pt x="0" y="246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173640" y="4735440"/>
              <a:ext cx="90360" cy="426960"/>
            </a:xfrm>
            <a:custGeom>
              <a:avLst/>
              <a:gdLst/>
              <a:ahLst/>
              <a:rect l="l" t="t" r="r" b="b"/>
              <a:pathLst>
                <a:path w="49" h="232">
                  <a:moveTo>
                    <a:pt x="49" y="0"/>
                  </a:moveTo>
                  <a:lnTo>
                    <a:pt x="49" y="159"/>
                  </a:lnTo>
                  <a:lnTo>
                    <a:pt x="41" y="202"/>
                  </a:lnTo>
                  <a:lnTo>
                    <a:pt x="29" y="232"/>
                  </a:lnTo>
                  <a:lnTo>
                    <a:pt x="10" y="204"/>
                  </a:lnTo>
                  <a:lnTo>
                    <a:pt x="0" y="149"/>
                  </a:lnTo>
                  <a:lnTo>
                    <a:pt x="39" y="5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86360" y="4252680"/>
              <a:ext cx="123840" cy="414360"/>
            </a:xfrm>
            <a:custGeom>
              <a:avLst/>
              <a:gdLst/>
              <a:ahLst/>
              <a:rect l="l" t="t" r="r" b="b"/>
              <a:pathLst>
                <a:path w="66" h="225">
                  <a:moveTo>
                    <a:pt x="0" y="70"/>
                  </a:moveTo>
                  <a:lnTo>
                    <a:pt x="0" y="225"/>
                  </a:lnTo>
                  <a:lnTo>
                    <a:pt x="66" y="154"/>
                  </a:lnTo>
                  <a:lnTo>
                    <a:pt x="66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99120" y="3591000"/>
              <a:ext cx="92160" cy="404640"/>
            </a:xfrm>
            <a:custGeom>
              <a:avLst/>
              <a:gdLst/>
              <a:ahLst/>
              <a:rect l="l" t="t" r="r" b="b"/>
              <a:pathLst>
                <a:path w="49" h="220">
                  <a:moveTo>
                    <a:pt x="0" y="63"/>
                  </a:moveTo>
                  <a:lnTo>
                    <a:pt x="49" y="0"/>
                  </a:lnTo>
                  <a:lnTo>
                    <a:pt x="49" y="155"/>
                  </a:lnTo>
                  <a:lnTo>
                    <a:pt x="0" y="22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24240" y="3609720"/>
              <a:ext cx="74880" cy="390600"/>
            </a:xfrm>
            <a:custGeom>
              <a:avLst/>
              <a:gdLst/>
              <a:ahLst/>
              <a:rect l="l" t="t" r="r" b="b"/>
              <a:pathLst>
                <a:path w="40" h="212">
                  <a:moveTo>
                    <a:pt x="0" y="0"/>
                  </a:moveTo>
                  <a:lnTo>
                    <a:pt x="40" y="55"/>
                  </a:lnTo>
                  <a:lnTo>
                    <a:pt x="40" y="212"/>
                  </a:lnTo>
                  <a:lnTo>
                    <a:pt x="0" y="1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83200" y="3751200"/>
              <a:ext cx="96840" cy="460440"/>
            </a:xfrm>
            <a:custGeom>
              <a:avLst/>
              <a:gdLst/>
              <a:ahLst/>
              <a:rect l="l" t="t" r="r" b="b"/>
              <a:pathLst>
                <a:path w="52" h="250">
                  <a:moveTo>
                    <a:pt x="52" y="0"/>
                  </a:moveTo>
                  <a:lnTo>
                    <a:pt x="0" y="97"/>
                  </a:lnTo>
                  <a:lnTo>
                    <a:pt x="0" y="250"/>
                  </a:lnTo>
                  <a:lnTo>
                    <a:pt x="52" y="15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22720" y="3933720"/>
              <a:ext cx="60480" cy="208080"/>
            </a:xfrm>
            <a:custGeom>
              <a:avLst/>
              <a:gdLst/>
              <a:ahLst/>
              <a:rect l="l" t="t" r="r" b="b"/>
              <a:pathLst>
                <a:path w="32" h="113">
                  <a:moveTo>
                    <a:pt x="32" y="0"/>
                  </a:moveTo>
                  <a:lnTo>
                    <a:pt x="0" y="34"/>
                  </a:lnTo>
                  <a:lnTo>
                    <a:pt x="32" y="11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30840" y="3267000"/>
              <a:ext cx="101520" cy="318960"/>
            </a:xfrm>
            <a:custGeom>
              <a:avLst/>
              <a:gdLst/>
              <a:ahLst/>
              <a:rect l="l" t="t" r="r" b="b"/>
              <a:pathLst>
                <a:path w="54" h="173">
                  <a:moveTo>
                    <a:pt x="0" y="20"/>
                  </a:moveTo>
                  <a:lnTo>
                    <a:pt x="54" y="0"/>
                  </a:lnTo>
                  <a:lnTo>
                    <a:pt x="54" y="153"/>
                  </a:lnTo>
                  <a:lnTo>
                    <a:pt x="0" y="17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73600" y="3255840"/>
              <a:ext cx="57240" cy="325440"/>
            </a:xfrm>
            <a:custGeom>
              <a:avLst/>
              <a:gdLst/>
              <a:ahLst/>
              <a:rect l="l" t="t" r="r" b="b"/>
              <a:pathLst>
                <a:path w="31" h="177">
                  <a:moveTo>
                    <a:pt x="0" y="0"/>
                  </a:moveTo>
                  <a:lnTo>
                    <a:pt x="31" y="28"/>
                  </a:lnTo>
                  <a:lnTo>
                    <a:pt x="31" y="177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38680" y="3263760"/>
              <a:ext cx="34920" cy="344520"/>
            </a:xfrm>
            <a:custGeom>
              <a:avLst/>
              <a:gdLst/>
              <a:ahLst/>
              <a:rect l="l" t="t" r="r" b="b"/>
              <a:pathLst>
                <a:path w="18" h="187">
                  <a:moveTo>
                    <a:pt x="18" y="0"/>
                  </a:moveTo>
                  <a:lnTo>
                    <a:pt x="18" y="145"/>
                  </a:lnTo>
                  <a:lnTo>
                    <a:pt x="0" y="187"/>
                  </a:lnTo>
                  <a:lnTo>
                    <a:pt x="0" y="3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71920" y="3322440"/>
              <a:ext cx="266760" cy="317520"/>
            </a:xfrm>
            <a:custGeom>
              <a:avLst/>
              <a:gdLst/>
              <a:ahLst/>
              <a:rect l="l" t="t" r="r" b="b"/>
              <a:pathLst>
                <a:path w="143" h="173">
                  <a:moveTo>
                    <a:pt x="143" y="0"/>
                  </a:moveTo>
                  <a:lnTo>
                    <a:pt x="113" y="4"/>
                  </a:lnTo>
                  <a:lnTo>
                    <a:pt x="0" y="20"/>
                  </a:lnTo>
                  <a:lnTo>
                    <a:pt x="0" y="173"/>
                  </a:lnTo>
                  <a:lnTo>
                    <a:pt x="115" y="159"/>
                  </a:lnTo>
                  <a:lnTo>
                    <a:pt x="143" y="155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78320" y="3367080"/>
              <a:ext cx="93600" cy="368280"/>
            </a:xfrm>
            <a:custGeom>
              <a:avLst/>
              <a:gdLst/>
              <a:ahLst/>
              <a:rect l="l" t="t" r="r" b="b"/>
              <a:pathLst>
                <a:path w="50" h="200">
                  <a:moveTo>
                    <a:pt x="50" y="0"/>
                  </a:moveTo>
                  <a:lnTo>
                    <a:pt x="50" y="151"/>
                  </a:lnTo>
                  <a:lnTo>
                    <a:pt x="18" y="171"/>
                  </a:lnTo>
                  <a:lnTo>
                    <a:pt x="6" y="200"/>
                  </a:lnTo>
                  <a:lnTo>
                    <a:pt x="6" y="123"/>
                  </a:lnTo>
                  <a:lnTo>
                    <a:pt x="14" y="63"/>
                  </a:lnTo>
                  <a:lnTo>
                    <a:pt x="0" y="58"/>
                  </a:lnTo>
                  <a:lnTo>
                    <a:pt x="16" y="2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20520" y="3692520"/>
              <a:ext cx="431640" cy="1000080"/>
            </a:xfrm>
            <a:custGeom>
              <a:avLst/>
              <a:gdLst/>
              <a:ahLst/>
              <a:rect l="l" t="t" r="r" b="b"/>
              <a:pathLst>
                <a:path w="231" h="543">
                  <a:moveTo>
                    <a:pt x="0" y="0"/>
                  </a:moveTo>
                  <a:lnTo>
                    <a:pt x="0" y="154"/>
                  </a:lnTo>
                  <a:lnTo>
                    <a:pt x="82" y="280"/>
                  </a:lnTo>
                  <a:lnTo>
                    <a:pt x="231" y="543"/>
                  </a:lnTo>
                  <a:lnTo>
                    <a:pt x="231" y="391"/>
                  </a:lnTo>
                  <a:lnTo>
                    <a:pt x="92" y="1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49280" y="4424400"/>
              <a:ext cx="87120" cy="26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47560" y="4416480"/>
              <a:ext cx="304920" cy="517320"/>
            </a:xfrm>
            <a:custGeom>
              <a:avLst/>
              <a:gdLst/>
              <a:ahLst/>
              <a:rect l="l" t="t" r="r" b="b"/>
              <a:pathLst>
                <a:path w="163" h="281">
                  <a:moveTo>
                    <a:pt x="0" y="0"/>
                  </a:moveTo>
                  <a:lnTo>
                    <a:pt x="0" y="150"/>
                  </a:lnTo>
                  <a:lnTo>
                    <a:pt x="163" y="281"/>
                  </a:lnTo>
                  <a:lnTo>
                    <a:pt x="163" y="1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52480" y="4647960"/>
              <a:ext cx="349200" cy="289080"/>
            </a:xfrm>
            <a:custGeom>
              <a:avLst/>
              <a:gdLst/>
              <a:ahLst/>
              <a:rect l="l" t="t" r="r" b="b"/>
              <a:pathLst>
                <a:path w="186" h="157">
                  <a:moveTo>
                    <a:pt x="0" y="2"/>
                  </a:moveTo>
                  <a:lnTo>
                    <a:pt x="0" y="157"/>
                  </a:lnTo>
                  <a:lnTo>
                    <a:pt x="186" y="157"/>
                  </a:lnTo>
                  <a:lnTo>
                    <a:pt x="18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98440" y="4709880"/>
              <a:ext cx="417600" cy="479520"/>
            </a:xfrm>
            <a:custGeom>
              <a:avLst/>
              <a:gdLst/>
              <a:ahLst/>
              <a:rect l="l" t="t" r="r" b="b"/>
              <a:pathLst>
                <a:path w="224" h="260">
                  <a:moveTo>
                    <a:pt x="0" y="0"/>
                  </a:moveTo>
                  <a:lnTo>
                    <a:pt x="224" y="107"/>
                  </a:lnTo>
                  <a:lnTo>
                    <a:pt x="224" y="260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23960" y="4917960"/>
              <a:ext cx="325440" cy="2570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5520" y="4782960"/>
              <a:ext cx="141480" cy="277920"/>
            </a:xfrm>
            <a:custGeom>
              <a:avLst/>
              <a:gdLst/>
              <a:ahLst/>
              <a:rect l="l" t="t" r="r" b="b"/>
              <a:pathLst>
                <a:path w="75" h="151">
                  <a:moveTo>
                    <a:pt x="0" y="2"/>
                  </a:moveTo>
                  <a:lnTo>
                    <a:pt x="0" y="151"/>
                  </a:lnTo>
                  <a:lnTo>
                    <a:pt x="75" y="151"/>
                  </a:lnTo>
                  <a:lnTo>
                    <a:pt x="7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97000" y="4789440"/>
              <a:ext cx="245880" cy="482400"/>
            </a:xfrm>
            <a:custGeom>
              <a:avLst/>
              <a:gdLst/>
              <a:ahLst/>
              <a:rect l="l" t="t" r="r" b="b"/>
              <a:pathLst>
                <a:path w="132" h="262">
                  <a:moveTo>
                    <a:pt x="0" y="0"/>
                  </a:moveTo>
                  <a:lnTo>
                    <a:pt x="132" y="109"/>
                  </a:lnTo>
                  <a:lnTo>
                    <a:pt x="132" y="262"/>
                  </a:lnTo>
                  <a:lnTo>
                    <a:pt x="0" y="1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2880" y="4991040"/>
              <a:ext cx="111240" cy="480960"/>
            </a:xfrm>
            <a:custGeom>
              <a:avLst/>
              <a:gdLst/>
              <a:ahLst/>
              <a:rect l="l" t="t" r="r" b="b"/>
              <a:pathLst>
                <a:path w="59" h="262">
                  <a:moveTo>
                    <a:pt x="0" y="0"/>
                  </a:moveTo>
                  <a:lnTo>
                    <a:pt x="59" y="108"/>
                  </a:lnTo>
                  <a:lnTo>
                    <a:pt x="59" y="262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54120" y="5189400"/>
              <a:ext cx="123840" cy="3524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0" y="0"/>
                  </a:moveTo>
                  <a:lnTo>
                    <a:pt x="66" y="39"/>
                  </a:lnTo>
                  <a:lnTo>
                    <a:pt x="66" y="19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7960" y="5167080"/>
              <a:ext cx="82440" cy="368280"/>
            </a:xfrm>
            <a:custGeom>
              <a:avLst/>
              <a:gdLst/>
              <a:ahLst/>
              <a:rect l="l" t="t" r="r" b="b"/>
              <a:pathLst>
                <a:path w="45" h="200">
                  <a:moveTo>
                    <a:pt x="45" y="0"/>
                  </a:moveTo>
                  <a:lnTo>
                    <a:pt x="0" y="51"/>
                  </a:lnTo>
                  <a:lnTo>
                    <a:pt x="0" y="200"/>
                  </a:lnTo>
                  <a:lnTo>
                    <a:pt x="45" y="15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60400" y="5167080"/>
              <a:ext cx="157320" cy="331920"/>
            </a:xfrm>
            <a:custGeom>
              <a:avLst/>
              <a:gdLst/>
              <a:ahLst/>
              <a:rect l="l" t="t" r="r" b="b"/>
              <a:pathLst>
                <a:path w="84" h="180">
                  <a:moveTo>
                    <a:pt x="0" y="0"/>
                  </a:moveTo>
                  <a:lnTo>
                    <a:pt x="84" y="29"/>
                  </a:lnTo>
                  <a:lnTo>
                    <a:pt x="84" y="180"/>
                  </a:lnTo>
                  <a:lnTo>
                    <a:pt x="0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17520" y="5545080"/>
              <a:ext cx="301680" cy="385560"/>
            </a:xfrm>
            <a:custGeom>
              <a:avLst/>
              <a:gdLst/>
              <a:ahLst/>
              <a:rect l="l" t="t" r="r" b="b"/>
              <a:pathLst>
                <a:path w="161" h="210">
                  <a:moveTo>
                    <a:pt x="0" y="0"/>
                  </a:moveTo>
                  <a:lnTo>
                    <a:pt x="161" y="54"/>
                  </a:lnTo>
                  <a:lnTo>
                    <a:pt x="161" y="210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17720" y="5216400"/>
              <a:ext cx="199800" cy="614520"/>
            </a:xfrm>
            <a:custGeom>
              <a:avLst/>
              <a:gdLst/>
              <a:ahLst/>
              <a:rect l="l" t="t" r="r" b="b"/>
              <a:pathLst>
                <a:path w="106" h="334">
                  <a:moveTo>
                    <a:pt x="0" y="0"/>
                  </a:moveTo>
                  <a:lnTo>
                    <a:pt x="106" y="180"/>
                  </a:lnTo>
                  <a:lnTo>
                    <a:pt x="106" y="334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6520" y="2243160"/>
              <a:ext cx="66600" cy="471240"/>
            </a:xfrm>
            <a:custGeom>
              <a:avLst/>
              <a:gdLst/>
              <a:ahLst/>
              <a:rect l="l" t="t" r="r" b="b"/>
              <a:pathLst>
                <a:path w="36" h="256">
                  <a:moveTo>
                    <a:pt x="0" y="0"/>
                  </a:moveTo>
                  <a:lnTo>
                    <a:pt x="36" y="157"/>
                  </a:lnTo>
                  <a:lnTo>
                    <a:pt x="24" y="256"/>
                  </a:lnTo>
                  <a:lnTo>
                    <a:pt x="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8080" y="3448080"/>
              <a:ext cx="104760" cy="393480"/>
            </a:xfrm>
            <a:custGeom>
              <a:avLst/>
              <a:gdLst/>
              <a:ahLst/>
              <a:rect l="l" t="t" r="r" b="b"/>
              <a:pathLst>
                <a:path w="56" h="214">
                  <a:moveTo>
                    <a:pt x="0" y="0"/>
                  </a:moveTo>
                  <a:lnTo>
                    <a:pt x="56" y="79"/>
                  </a:lnTo>
                  <a:lnTo>
                    <a:pt x="44" y="131"/>
                  </a:lnTo>
                  <a:lnTo>
                    <a:pt x="44" y="214"/>
                  </a:lnTo>
                  <a:lnTo>
                    <a:pt x="0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86040" y="2549520"/>
              <a:ext cx="392040" cy="330120"/>
            </a:xfrm>
            <a:custGeom>
              <a:avLst/>
              <a:gdLst/>
              <a:ahLst/>
              <a:rect l="l" t="t" r="r" b="b"/>
              <a:pathLst>
                <a:path w="209" h="179">
                  <a:moveTo>
                    <a:pt x="0" y="26"/>
                  </a:moveTo>
                  <a:lnTo>
                    <a:pt x="209" y="0"/>
                  </a:lnTo>
                  <a:lnTo>
                    <a:pt x="209" y="149"/>
                  </a:lnTo>
                  <a:lnTo>
                    <a:pt x="0" y="179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51040" y="2597040"/>
              <a:ext cx="150840" cy="426960"/>
            </a:xfrm>
            <a:custGeom>
              <a:avLst/>
              <a:gdLst/>
              <a:ahLst/>
              <a:rect l="l" t="t" r="r" b="b"/>
              <a:pathLst>
                <a:path w="81" h="232">
                  <a:moveTo>
                    <a:pt x="81" y="0"/>
                  </a:moveTo>
                  <a:lnTo>
                    <a:pt x="81" y="151"/>
                  </a:lnTo>
                  <a:lnTo>
                    <a:pt x="0" y="232"/>
                  </a:lnTo>
                  <a:lnTo>
                    <a:pt x="0" y="79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8160" y="2189160"/>
              <a:ext cx="222480" cy="291960"/>
            </a:xfrm>
            <a:custGeom>
              <a:avLst/>
              <a:gdLst/>
              <a:ahLst/>
              <a:rect l="l" t="t" r="r" b="b"/>
              <a:pathLst>
                <a:path w="119" h="159">
                  <a:moveTo>
                    <a:pt x="119" y="0"/>
                  </a:moveTo>
                  <a:lnTo>
                    <a:pt x="14" y="97"/>
                  </a:lnTo>
                  <a:lnTo>
                    <a:pt x="0" y="153"/>
                  </a:lnTo>
                  <a:lnTo>
                    <a:pt x="95" y="121"/>
                  </a:lnTo>
                  <a:lnTo>
                    <a:pt x="119" y="159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79760" y="2355840"/>
              <a:ext cx="123840" cy="145800"/>
            </a:xfrm>
            <a:custGeom>
              <a:avLst/>
              <a:gdLst/>
              <a:ahLst/>
              <a:rect l="l" t="t" r="r" b="b"/>
              <a:pathLst>
                <a:path w="66" h="79">
                  <a:moveTo>
                    <a:pt x="66" y="0"/>
                  </a:moveTo>
                  <a:lnTo>
                    <a:pt x="0" y="54"/>
                  </a:lnTo>
                  <a:lnTo>
                    <a:pt x="66" y="7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08280" y="2757240"/>
              <a:ext cx="84240" cy="403560"/>
            </a:xfrm>
            <a:custGeom>
              <a:avLst/>
              <a:gdLst/>
              <a:ahLst/>
              <a:rect l="l" t="t" r="r" b="b"/>
              <a:pathLst>
                <a:path w="46" h="219">
                  <a:moveTo>
                    <a:pt x="46" y="0"/>
                  </a:moveTo>
                  <a:lnTo>
                    <a:pt x="0" y="60"/>
                  </a:lnTo>
                  <a:lnTo>
                    <a:pt x="0" y="219"/>
                  </a:lnTo>
                  <a:lnTo>
                    <a:pt x="46" y="15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68680" y="2890800"/>
              <a:ext cx="34920" cy="328680"/>
            </a:xfrm>
            <a:custGeom>
              <a:avLst/>
              <a:gdLst/>
              <a:ahLst/>
              <a:rect l="l" t="t" r="r" b="b"/>
              <a:pathLst>
                <a:path w="18" h="179">
                  <a:moveTo>
                    <a:pt x="18" y="0"/>
                  </a:moveTo>
                  <a:lnTo>
                    <a:pt x="18" y="145"/>
                  </a:lnTo>
                  <a:lnTo>
                    <a:pt x="14" y="179"/>
                  </a:lnTo>
                  <a:lnTo>
                    <a:pt x="0" y="14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79880" y="2820960"/>
              <a:ext cx="106200" cy="150840"/>
            </a:xfrm>
            <a:custGeom>
              <a:avLst/>
              <a:gdLst/>
              <a:ahLst/>
              <a:rect l="l" t="t" r="r" b="b"/>
              <a:pathLst>
                <a:path w="57" h="82">
                  <a:moveTo>
                    <a:pt x="57" y="0"/>
                  </a:moveTo>
                  <a:lnTo>
                    <a:pt x="0" y="58"/>
                  </a:lnTo>
                  <a:lnTo>
                    <a:pt x="16" y="82"/>
                  </a:lnTo>
                  <a:lnTo>
                    <a:pt x="57" y="5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48280" y="3098880"/>
              <a:ext cx="110880" cy="212400"/>
            </a:xfrm>
            <a:custGeom>
              <a:avLst/>
              <a:gdLst/>
              <a:ahLst/>
              <a:rect l="l" t="t" r="r" b="b"/>
              <a:pathLst>
                <a:path w="59" h="116">
                  <a:moveTo>
                    <a:pt x="59" y="0"/>
                  </a:moveTo>
                  <a:lnTo>
                    <a:pt x="0" y="77"/>
                  </a:lnTo>
                  <a:lnTo>
                    <a:pt x="0" y="92"/>
                  </a:lnTo>
                  <a:lnTo>
                    <a:pt x="44" y="116"/>
                  </a:lnTo>
                  <a:lnTo>
                    <a:pt x="59" y="116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10080" y="3160800"/>
              <a:ext cx="693720" cy="417240"/>
            </a:xfrm>
            <a:custGeom>
              <a:avLst/>
              <a:gdLst/>
              <a:ahLst/>
              <a:rect l="l" t="t" r="r" b="b"/>
              <a:pathLst>
                <a:path w="371" h="227">
                  <a:moveTo>
                    <a:pt x="0" y="43"/>
                  </a:moveTo>
                  <a:lnTo>
                    <a:pt x="53" y="0"/>
                  </a:lnTo>
                  <a:lnTo>
                    <a:pt x="53" y="41"/>
                  </a:lnTo>
                  <a:lnTo>
                    <a:pt x="329" y="41"/>
                  </a:lnTo>
                  <a:lnTo>
                    <a:pt x="371" y="108"/>
                  </a:lnTo>
                  <a:lnTo>
                    <a:pt x="346" y="128"/>
                  </a:lnTo>
                  <a:lnTo>
                    <a:pt x="369" y="185"/>
                  </a:lnTo>
                  <a:lnTo>
                    <a:pt x="347" y="209"/>
                  </a:lnTo>
                  <a:lnTo>
                    <a:pt x="282" y="209"/>
                  </a:lnTo>
                  <a:lnTo>
                    <a:pt x="282" y="227"/>
                  </a:lnTo>
                  <a:lnTo>
                    <a:pt x="0" y="22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6920" y="2730240"/>
              <a:ext cx="782640" cy="681120"/>
            </a:xfrm>
            <a:custGeom>
              <a:avLst/>
              <a:gdLst/>
              <a:ahLst/>
              <a:rect l="l" t="t" r="r" b="b"/>
              <a:pathLst>
                <a:path w="417" h="370">
                  <a:moveTo>
                    <a:pt x="0" y="234"/>
                  </a:moveTo>
                  <a:lnTo>
                    <a:pt x="0" y="273"/>
                  </a:lnTo>
                  <a:lnTo>
                    <a:pt x="274" y="273"/>
                  </a:lnTo>
                  <a:lnTo>
                    <a:pt x="318" y="340"/>
                  </a:lnTo>
                  <a:lnTo>
                    <a:pt x="369" y="350"/>
                  </a:lnTo>
                  <a:lnTo>
                    <a:pt x="371" y="370"/>
                  </a:lnTo>
                  <a:lnTo>
                    <a:pt x="407" y="342"/>
                  </a:lnTo>
                  <a:lnTo>
                    <a:pt x="417" y="218"/>
                  </a:lnTo>
                  <a:lnTo>
                    <a:pt x="417" y="133"/>
                  </a:lnTo>
                  <a:lnTo>
                    <a:pt x="401" y="119"/>
                  </a:lnTo>
                  <a:lnTo>
                    <a:pt x="409" y="0"/>
                  </a:lnTo>
                  <a:lnTo>
                    <a:pt x="320" y="0"/>
                  </a:lnTo>
                  <a:lnTo>
                    <a:pt x="224" y="95"/>
                  </a:lnTo>
                  <a:lnTo>
                    <a:pt x="240" y="127"/>
                  </a:lnTo>
                  <a:lnTo>
                    <a:pt x="181" y="170"/>
                  </a:lnTo>
                  <a:lnTo>
                    <a:pt x="107" y="160"/>
                  </a:lnTo>
                  <a:lnTo>
                    <a:pt x="42" y="160"/>
                  </a:lnTo>
                  <a:lnTo>
                    <a:pt x="28" y="20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4640" y="2735280"/>
              <a:ext cx="288720" cy="347400"/>
            </a:xfrm>
            <a:custGeom>
              <a:avLst/>
              <a:gdLst/>
              <a:ahLst/>
              <a:rect l="l" t="t" r="r" b="b"/>
              <a:pathLst>
                <a:path w="155" h="189">
                  <a:moveTo>
                    <a:pt x="10" y="0"/>
                  </a:moveTo>
                  <a:lnTo>
                    <a:pt x="155" y="0"/>
                  </a:lnTo>
                  <a:lnTo>
                    <a:pt x="149" y="46"/>
                  </a:lnTo>
                  <a:lnTo>
                    <a:pt x="123" y="56"/>
                  </a:lnTo>
                  <a:lnTo>
                    <a:pt x="83" y="189"/>
                  </a:lnTo>
                  <a:lnTo>
                    <a:pt x="18" y="189"/>
                  </a:lnTo>
                  <a:lnTo>
                    <a:pt x="18" y="130"/>
                  </a:lnTo>
                  <a:lnTo>
                    <a:pt x="0" y="11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08720" y="2612880"/>
              <a:ext cx="218880" cy="469800"/>
            </a:xfrm>
            <a:custGeom>
              <a:avLst/>
              <a:gdLst/>
              <a:ahLst/>
              <a:rect l="l" t="t" r="r" b="b"/>
              <a:pathLst>
                <a:path w="116" h="256">
                  <a:moveTo>
                    <a:pt x="72" y="67"/>
                  </a:moveTo>
                  <a:lnTo>
                    <a:pt x="116" y="0"/>
                  </a:lnTo>
                  <a:lnTo>
                    <a:pt x="116" y="234"/>
                  </a:lnTo>
                  <a:lnTo>
                    <a:pt x="74" y="256"/>
                  </a:lnTo>
                  <a:lnTo>
                    <a:pt x="0" y="254"/>
                  </a:lnTo>
                  <a:lnTo>
                    <a:pt x="40" y="125"/>
                  </a:lnTo>
                  <a:lnTo>
                    <a:pt x="68" y="113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7600" y="2352600"/>
              <a:ext cx="460440" cy="687240"/>
            </a:xfrm>
            <a:custGeom>
              <a:avLst/>
              <a:gdLst/>
              <a:ahLst/>
              <a:rect l="l" t="t" r="r" b="b"/>
              <a:pathLst>
                <a:path w="246" h="373">
                  <a:moveTo>
                    <a:pt x="0" y="145"/>
                  </a:moveTo>
                  <a:lnTo>
                    <a:pt x="0" y="373"/>
                  </a:lnTo>
                  <a:lnTo>
                    <a:pt x="59" y="340"/>
                  </a:lnTo>
                  <a:lnTo>
                    <a:pt x="63" y="310"/>
                  </a:lnTo>
                  <a:lnTo>
                    <a:pt x="246" y="177"/>
                  </a:lnTo>
                  <a:lnTo>
                    <a:pt x="236" y="127"/>
                  </a:lnTo>
                  <a:lnTo>
                    <a:pt x="204" y="113"/>
                  </a:lnTo>
                  <a:lnTo>
                    <a:pt x="182" y="6"/>
                  </a:lnTo>
                  <a:lnTo>
                    <a:pt x="133" y="20"/>
                  </a:lnTo>
                  <a:lnTo>
                    <a:pt x="107" y="0"/>
                  </a:lnTo>
                  <a:lnTo>
                    <a:pt x="59" y="38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81640" y="3054240"/>
              <a:ext cx="446040" cy="250920"/>
            </a:xfrm>
            <a:custGeom>
              <a:avLst/>
              <a:gdLst/>
              <a:ahLst/>
              <a:rect l="l" t="t" r="r" b="b"/>
              <a:pathLst>
                <a:path w="238" h="136">
                  <a:moveTo>
                    <a:pt x="6" y="16"/>
                  </a:moveTo>
                  <a:lnTo>
                    <a:pt x="143" y="16"/>
                  </a:lnTo>
                  <a:lnTo>
                    <a:pt x="177" y="0"/>
                  </a:lnTo>
                  <a:lnTo>
                    <a:pt x="193" y="36"/>
                  </a:lnTo>
                  <a:lnTo>
                    <a:pt x="171" y="58"/>
                  </a:lnTo>
                  <a:lnTo>
                    <a:pt x="203" y="116"/>
                  </a:lnTo>
                  <a:lnTo>
                    <a:pt x="238" y="116"/>
                  </a:lnTo>
                  <a:lnTo>
                    <a:pt x="187" y="136"/>
                  </a:lnTo>
                  <a:lnTo>
                    <a:pt x="141" y="90"/>
                  </a:lnTo>
                  <a:lnTo>
                    <a:pt x="0" y="9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84680" y="3219480"/>
              <a:ext cx="90720" cy="11088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30" y="56"/>
                  </a:lnTo>
                  <a:lnTo>
                    <a:pt x="0" y="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70480" y="3217680"/>
              <a:ext cx="214200" cy="142920"/>
            </a:xfrm>
            <a:custGeom>
              <a:avLst/>
              <a:gdLst/>
              <a:ahLst/>
              <a:rect l="l" t="t" r="r" b="b"/>
              <a:pathLst>
                <a:path w="115" h="78">
                  <a:moveTo>
                    <a:pt x="6" y="0"/>
                  </a:moveTo>
                  <a:lnTo>
                    <a:pt x="115" y="0"/>
                  </a:lnTo>
                  <a:lnTo>
                    <a:pt x="115" y="62"/>
                  </a:lnTo>
                  <a:lnTo>
                    <a:pt x="0" y="7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18120" y="3360600"/>
              <a:ext cx="187200" cy="351000"/>
            </a:xfrm>
            <a:custGeom>
              <a:avLst/>
              <a:gdLst/>
              <a:ahLst/>
              <a:rect l="l" t="t" r="r" b="b"/>
              <a:pathLst>
                <a:path w="100" h="190">
                  <a:moveTo>
                    <a:pt x="46" y="0"/>
                  </a:moveTo>
                  <a:lnTo>
                    <a:pt x="22" y="21"/>
                  </a:lnTo>
                  <a:lnTo>
                    <a:pt x="43" y="76"/>
                  </a:lnTo>
                  <a:lnTo>
                    <a:pt x="22" y="102"/>
                  </a:lnTo>
                  <a:lnTo>
                    <a:pt x="0" y="131"/>
                  </a:lnTo>
                  <a:lnTo>
                    <a:pt x="43" y="190"/>
                  </a:lnTo>
                  <a:lnTo>
                    <a:pt x="87" y="131"/>
                  </a:lnTo>
                  <a:lnTo>
                    <a:pt x="100" y="64"/>
                  </a:lnTo>
                  <a:lnTo>
                    <a:pt x="84" y="61"/>
                  </a:lnTo>
                  <a:lnTo>
                    <a:pt x="99" y="27"/>
                  </a:lnTo>
                  <a:lnTo>
                    <a:pt x="96" y="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37120" y="3543120"/>
              <a:ext cx="144360" cy="247680"/>
            </a:xfrm>
            <a:custGeom>
              <a:avLst/>
              <a:gdLst/>
              <a:ahLst/>
              <a:rect l="l" t="t" r="r" b="b"/>
              <a:pathLst>
                <a:path w="77" h="134">
                  <a:moveTo>
                    <a:pt x="66" y="0"/>
                  </a:moveTo>
                  <a:lnTo>
                    <a:pt x="0" y="0"/>
                  </a:lnTo>
                  <a:lnTo>
                    <a:pt x="0" y="134"/>
                  </a:lnTo>
                  <a:lnTo>
                    <a:pt x="64" y="134"/>
                  </a:lnTo>
                  <a:lnTo>
                    <a:pt x="77" y="113"/>
                  </a:lnTo>
                  <a:lnTo>
                    <a:pt x="44" y="71"/>
                  </a:lnTo>
                  <a:lnTo>
                    <a:pt x="45" y="3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22760" y="3579840"/>
              <a:ext cx="536760" cy="341280"/>
            </a:xfrm>
            <a:custGeom>
              <a:avLst/>
              <a:gdLst/>
              <a:ahLst/>
              <a:rect l="l" t="t" r="r" b="b"/>
              <a:pathLst>
                <a:path w="287" h="185">
                  <a:moveTo>
                    <a:pt x="0" y="0"/>
                  </a:moveTo>
                  <a:lnTo>
                    <a:pt x="223" y="0"/>
                  </a:lnTo>
                  <a:lnTo>
                    <a:pt x="223" y="115"/>
                  </a:lnTo>
                  <a:lnTo>
                    <a:pt x="287" y="115"/>
                  </a:lnTo>
                  <a:lnTo>
                    <a:pt x="251" y="185"/>
                  </a:lnTo>
                  <a:lnTo>
                    <a:pt x="175" y="165"/>
                  </a:lnTo>
                  <a:lnTo>
                    <a:pt x="150" y="73"/>
                  </a:lnTo>
                  <a:lnTo>
                    <a:pt x="141" y="51"/>
                  </a:lnTo>
                  <a:lnTo>
                    <a:pt x="86" y="34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98560" y="3524040"/>
              <a:ext cx="924120" cy="533520"/>
            </a:xfrm>
            <a:custGeom>
              <a:avLst/>
              <a:gdLst/>
              <a:ahLst/>
              <a:rect l="l" t="t" r="r" b="b"/>
              <a:pathLst>
                <a:path w="486" h="252">
                  <a:moveTo>
                    <a:pt x="0" y="0"/>
                  </a:moveTo>
                  <a:lnTo>
                    <a:pt x="460" y="0"/>
                  </a:lnTo>
                  <a:lnTo>
                    <a:pt x="474" y="18"/>
                  </a:lnTo>
                  <a:lnTo>
                    <a:pt x="454" y="40"/>
                  </a:lnTo>
                  <a:lnTo>
                    <a:pt x="486" y="70"/>
                  </a:lnTo>
                  <a:lnTo>
                    <a:pt x="486" y="252"/>
                  </a:lnTo>
                  <a:lnTo>
                    <a:pt x="0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54120" y="2576520"/>
              <a:ext cx="946080" cy="587160"/>
            </a:xfrm>
            <a:custGeom>
              <a:avLst/>
              <a:gdLst/>
              <a:ahLst/>
              <a:rect l="l" t="t" r="r" b="b"/>
              <a:pathLst>
                <a:path w="506" h="319">
                  <a:moveTo>
                    <a:pt x="0" y="0"/>
                  </a:moveTo>
                  <a:lnTo>
                    <a:pt x="496" y="0"/>
                  </a:lnTo>
                  <a:lnTo>
                    <a:pt x="496" y="25"/>
                  </a:lnTo>
                  <a:lnTo>
                    <a:pt x="474" y="51"/>
                  </a:lnTo>
                  <a:lnTo>
                    <a:pt x="506" y="89"/>
                  </a:lnTo>
                  <a:lnTo>
                    <a:pt x="506" y="228"/>
                  </a:lnTo>
                  <a:lnTo>
                    <a:pt x="484" y="228"/>
                  </a:lnTo>
                  <a:lnTo>
                    <a:pt x="484" y="319"/>
                  </a:lnTo>
                  <a:lnTo>
                    <a:pt x="398" y="291"/>
                  </a:lnTo>
                  <a:lnTo>
                    <a:pt x="363" y="270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59160" y="2984400"/>
              <a:ext cx="823680" cy="45576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0" y="0"/>
                  </a:moveTo>
                  <a:lnTo>
                    <a:pt x="374" y="0"/>
                  </a:lnTo>
                  <a:lnTo>
                    <a:pt x="386" y="28"/>
                  </a:lnTo>
                  <a:lnTo>
                    <a:pt x="384" y="62"/>
                  </a:lnTo>
                  <a:lnTo>
                    <a:pt x="420" y="96"/>
                  </a:lnTo>
                  <a:lnTo>
                    <a:pt x="439" y="137"/>
                  </a:lnTo>
                  <a:lnTo>
                    <a:pt x="386" y="176"/>
                  </a:lnTo>
                  <a:lnTo>
                    <a:pt x="396" y="202"/>
                  </a:lnTo>
                  <a:lnTo>
                    <a:pt x="352" y="248"/>
                  </a:lnTo>
                  <a:lnTo>
                    <a:pt x="52" y="248"/>
                  </a:lnTo>
                  <a:lnTo>
                    <a:pt x="0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89320" y="2076480"/>
              <a:ext cx="842760" cy="911160"/>
            </a:xfrm>
            <a:custGeom>
              <a:avLst/>
              <a:gdLst/>
              <a:ahLst/>
              <a:rect l="l" t="t" r="r" b="b"/>
              <a:pathLst>
                <a:path w="451" h="495">
                  <a:moveTo>
                    <a:pt x="0" y="0"/>
                  </a:moveTo>
                  <a:lnTo>
                    <a:pt x="151" y="0"/>
                  </a:lnTo>
                  <a:lnTo>
                    <a:pt x="451" y="60"/>
                  </a:lnTo>
                  <a:lnTo>
                    <a:pt x="348" y="157"/>
                  </a:lnTo>
                  <a:lnTo>
                    <a:pt x="304" y="304"/>
                  </a:lnTo>
                  <a:lnTo>
                    <a:pt x="304" y="382"/>
                  </a:lnTo>
                  <a:lnTo>
                    <a:pt x="407" y="457"/>
                  </a:lnTo>
                  <a:lnTo>
                    <a:pt x="413" y="495"/>
                  </a:lnTo>
                  <a:lnTo>
                    <a:pt x="60" y="495"/>
                  </a:lnTo>
                  <a:lnTo>
                    <a:pt x="60" y="352"/>
                  </a:lnTo>
                  <a:lnTo>
                    <a:pt x="30" y="316"/>
                  </a:lnTo>
                  <a:lnTo>
                    <a:pt x="50" y="294"/>
                  </a:lnTo>
                  <a:lnTo>
                    <a:pt x="50" y="263"/>
                  </a:lnTo>
                  <a:lnTo>
                    <a:pt x="38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4160" y="2414520"/>
              <a:ext cx="736920" cy="743040"/>
            </a:xfrm>
            <a:custGeom>
              <a:avLst/>
              <a:gdLst/>
              <a:ahLst/>
              <a:rect l="l" t="t" r="r" b="b"/>
              <a:pathLst>
                <a:path w="393" h="403">
                  <a:moveTo>
                    <a:pt x="25" y="30"/>
                  </a:moveTo>
                  <a:lnTo>
                    <a:pt x="125" y="0"/>
                  </a:lnTo>
                  <a:lnTo>
                    <a:pt x="145" y="38"/>
                  </a:lnTo>
                  <a:lnTo>
                    <a:pt x="280" y="105"/>
                  </a:lnTo>
                  <a:lnTo>
                    <a:pt x="311" y="143"/>
                  </a:lnTo>
                  <a:lnTo>
                    <a:pt x="321" y="180"/>
                  </a:lnTo>
                  <a:lnTo>
                    <a:pt x="373" y="171"/>
                  </a:lnTo>
                  <a:lnTo>
                    <a:pt x="393" y="188"/>
                  </a:lnTo>
                  <a:lnTo>
                    <a:pt x="349" y="252"/>
                  </a:lnTo>
                  <a:lnTo>
                    <a:pt x="327" y="403"/>
                  </a:lnTo>
                  <a:lnTo>
                    <a:pt x="153" y="403"/>
                  </a:lnTo>
                  <a:lnTo>
                    <a:pt x="119" y="375"/>
                  </a:lnTo>
                  <a:lnTo>
                    <a:pt x="121" y="339"/>
                  </a:lnTo>
                  <a:lnTo>
                    <a:pt x="107" y="306"/>
                  </a:lnTo>
                  <a:lnTo>
                    <a:pt x="103" y="272"/>
                  </a:lnTo>
                  <a:lnTo>
                    <a:pt x="0" y="198"/>
                  </a:lnTo>
                  <a:lnTo>
                    <a:pt x="0" y="123"/>
                  </a:lnTo>
                  <a:lnTo>
                    <a:pt x="25" y="3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22720" y="2338200"/>
              <a:ext cx="850680" cy="405000"/>
            </a:xfrm>
            <a:custGeom>
              <a:avLst/>
              <a:gdLst/>
              <a:ahLst/>
              <a:rect l="l" t="t" r="r" b="b"/>
              <a:pathLst>
                <a:path w="454" h="220">
                  <a:moveTo>
                    <a:pt x="0" y="76"/>
                  </a:moveTo>
                  <a:lnTo>
                    <a:pt x="141" y="151"/>
                  </a:lnTo>
                  <a:lnTo>
                    <a:pt x="168" y="187"/>
                  </a:lnTo>
                  <a:lnTo>
                    <a:pt x="178" y="220"/>
                  </a:lnTo>
                  <a:lnTo>
                    <a:pt x="256" y="143"/>
                  </a:lnTo>
                  <a:lnTo>
                    <a:pt x="454" y="113"/>
                  </a:lnTo>
                  <a:lnTo>
                    <a:pt x="367" y="58"/>
                  </a:lnTo>
                  <a:lnTo>
                    <a:pt x="250" y="109"/>
                  </a:lnTo>
                  <a:lnTo>
                    <a:pt x="139" y="64"/>
                  </a:lnTo>
                  <a:lnTo>
                    <a:pt x="204" y="10"/>
                  </a:lnTo>
                  <a:lnTo>
                    <a:pt x="147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09800" y="2644560"/>
              <a:ext cx="552600" cy="630360"/>
            </a:xfrm>
            <a:custGeom>
              <a:avLst/>
              <a:gdLst/>
              <a:ahLst/>
              <a:rect l="l" t="t" r="r" b="b"/>
              <a:pathLst>
                <a:path w="295" h="342">
                  <a:moveTo>
                    <a:pt x="141" y="0"/>
                  </a:moveTo>
                  <a:lnTo>
                    <a:pt x="235" y="28"/>
                  </a:lnTo>
                  <a:lnTo>
                    <a:pt x="255" y="95"/>
                  </a:lnTo>
                  <a:lnTo>
                    <a:pt x="200" y="151"/>
                  </a:lnTo>
                  <a:lnTo>
                    <a:pt x="214" y="177"/>
                  </a:lnTo>
                  <a:lnTo>
                    <a:pt x="267" y="147"/>
                  </a:lnTo>
                  <a:lnTo>
                    <a:pt x="289" y="153"/>
                  </a:lnTo>
                  <a:lnTo>
                    <a:pt x="295" y="246"/>
                  </a:lnTo>
                  <a:lnTo>
                    <a:pt x="237" y="323"/>
                  </a:lnTo>
                  <a:lnTo>
                    <a:pt x="237" y="342"/>
                  </a:lnTo>
                  <a:lnTo>
                    <a:pt x="0" y="342"/>
                  </a:lnTo>
                  <a:lnTo>
                    <a:pt x="34" y="246"/>
                  </a:lnTo>
                  <a:lnTo>
                    <a:pt x="16" y="171"/>
                  </a:lnTo>
                  <a:lnTo>
                    <a:pt x="47" y="9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17960" y="3157560"/>
              <a:ext cx="502920" cy="841320"/>
            </a:xfrm>
            <a:custGeom>
              <a:avLst/>
              <a:gdLst/>
              <a:ahLst/>
              <a:rect l="l" t="t" r="r" b="b"/>
              <a:pathLst>
                <a:path w="268" h="457">
                  <a:moveTo>
                    <a:pt x="68" y="0"/>
                  </a:moveTo>
                  <a:lnTo>
                    <a:pt x="244" y="0"/>
                  </a:lnTo>
                  <a:lnTo>
                    <a:pt x="266" y="68"/>
                  </a:lnTo>
                  <a:lnTo>
                    <a:pt x="266" y="303"/>
                  </a:lnTo>
                  <a:lnTo>
                    <a:pt x="268" y="324"/>
                  </a:lnTo>
                  <a:lnTo>
                    <a:pt x="234" y="364"/>
                  </a:lnTo>
                  <a:lnTo>
                    <a:pt x="226" y="412"/>
                  </a:lnTo>
                  <a:lnTo>
                    <a:pt x="161" y="457"/>
                  </a:lnTo>
                  <a:lnTo>
                    <a:pt x="131" y="447"/>
                  </a:lnTo>
                  <a:lnTo>
                    <a:pt x="64" y="350"/>
                  </a:lnTo>
                  <a:lnTo>
                    <a:pt x="83" y="320"/>
                  </a:lnTo>
                  <a:lnTo>
                    <a:pt x="56" y="301"/>
                  </a:lnTo>
                  <a:lnTo>
                    <a:pt x="0" y="209"/>
                  </a:lnTo>
                  <a:lnTo>
                    <a:pt x="4" y="152"/>
                  </a:lnTo>
                  <a:lnTo>
                    <a:pt x="44" y="106"/>
                  </a:lnTo>
                  <a:lnTo>
                    <a:pt x="34" y="80"/>
                  </a:lnTo>
                  <a:lnTo>
                    <a:pt x="85" y="43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7440" y="3440160"/>
              <a:ext cx="861840" cy="734760"/>
            </a:xfrm>
            <a:custGeom>
              <a:avLst/>
              <a:gdLst/>
              <a:ahLst/>
              <a:rect l="l" t="t" r="r" b="b"/>
              <a:pathLst>
                <a:path w="461" h="399">
                  <a:moveTo>
                    <a:pt x="0" y="0"/>
                  </a:moveTo>
                  <a:lnTo>
                    <a:pt x="304" y="0"/>
                  </a:lnTo>
                  <a:lnTo>
                    <a:pt x="300" y="53"/>
                  </a:lnTo>
                  <a:lnTo>
                    <a:pt x="356" y="149"/>
                  </a:lnTo>
                  <a:lnTo>
                    <a:pt x="383" y="166"/>
                  </a:lnTo>
                  <a:lnTo>
                    <a:pt x="366" y="194"/>
                  </a:lnTo>
                  <a:lnTo>
                    <a:pt x="431" y="293"/>
                  </a:lnTo>
                  <a:lnTo>
                    <a:pt x="461" y="303"/>
                  </a:lnTo>
                  <a:lnTo>
                    <a:pt x="421" y="399"/>
                  </a:lnTo>
                  <a:lnTo>
                    <a:pt x="381" y="399"/>
                  </a:lnTo>
                  <a:lnTo>
                    <a:pt x="393" y="357"/>
                  </a:lnTo>
                  <a:lnTo>
                    <a:pt x="87" y="357"/>
                  </a:lnTo>
                  <a:lnTo>
                    <a:pt x="72" y="313"/>
                  </a:lnTo>
                  <a:lnTo>
                    <a:pt x="72" y="127"/>
                  </a:lnTo>
                  <a:lnTo>
                    <a:pt x="40" y="97"/>
                  </a:lnTo>
                  <a:lnTo>
                    <a:pt x="6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41680" y="3271680"/>
              <a:ext cx="406440" cy="650880"/>
            </a:xfrm>
            <a:custGeom>
              <a:avLst/>
              <a:gdLst/>
              <a:ahLst/>
              <a:rect l="l" t="t" r="r" b="b"/>
              <a:pathLst>
                <a:path w="217" h="354">
                  <a:moveTo>
                    <a:pt x="40" y="0"/>
                  </a:moveTo>
                  <a:lnTo>
                    <a:pt x="58" y="12"/>
                  </a:lnTo>
                  <a:lnTo>
                    <a:pt x="88" y="2"/>
                  </a:lnTo>
                  <a:lnTo>
                    <a:pt x="217" y="2"/>
                  </a:lnTo>
                  <a:lnTo>
                    <a:pt x="217" y="213"/>
                  </a:lnTo>
                  <a:lnTo>
                    <a:pt x="137" y="322"/>
                  </a:lnTo>
                  <a:lnTo>
                    <a:pt x="0" y="354"/>
                  </a:lnTo>
                  <a:lnTo>
                    <a:pt x="10" y="302"/>
                  </a:lnTo>
                  <a:lnTo>
                    <a:pt x="40" y="26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49560" y="3233520"/>
              <a:ext cx="560520" cy="559080"/>
            </a:xfrm>
            <a:custGeom>
              <a:avLst/>
              <a:gdLst/>
              <a:ahLst/>
              <a:rect l="l" t="t" r="r" b="b"/>
              <a:pathLst>
                <a:path w="299" h="303">
                  <a:moveTo>
                    <a:pt x="0" y="21"/>
                  </a:moveTo>
                  <a:lnTo>
                    <a:pt x="112" y="21"/>
                  </a:lnTo>
                  <a:lnTo>
                    <a:pt x="154" y="41"/>
                  </a:lnTo>
                  <a:lnTo>
                    <a:pt x="217" y="41"/>
                  </a:lnTo>
                  <a:lnTo>
                    <a:pt x="299" y="0"/>
                  </a:lnTo>
                  <a:lnTo>
                    <a:pt x="299" y="132"/>
                  </a:lnTo>
                  <a:lnTo>
                    <a:pt x="287" y="138"/>
                  </a:lnTo>
                  <a:lnTo>
                    <a:pt x="247" y="218"/>
                  </a:lnTo>
                  <a:lnTo>
                    <a:pt x="225" y="218"/>
                  </a:lnTo>
                  <a:lnTo>
                    <a:pt x="152" y="303"/>
                  </a:lnTo>
                  <a:lnTo>
                    <a:pt x="128" y="281"/>
                  </a:lnTo>
                  <a:lnTo>
                    <a:pt x="91" y="291"/>
                  </a:lnTo>
                  <a:lnTo>
                    <a:pt x="0" y="21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55440" y="2076480"/>
              <a:ext cx="1498680" cy="785520"/>
            </a:xfrm>
            <a:custGeom>
              <a:avLst/>
              <a:gdLst/>
              <a:ahLst/>
              <a:rect l="l" t="t" r="r" b="b"/>
              <a:pathLst>
                <a:path w="800" h="413">
                  <a:moveTo>
                    <a:pt x="2" y="0"/>
                  </a:moveTo>
                  <a:lnTo>
                    <a:pt x="800" y="0"/>
                  </a:lnTo>
                  <a:lnTo>
                    <a:pt x="800" y="358"/>
                  </a:lnTo>
                  <a:lnTo>
                    <a:pt x="329" y="358"/>
                  </a:lnTo>
                  <a:lnTo>
                    <a:pt x="329" y="380"/>
                  </a:lnTo>
                  <a:lnTo>
                    <a:pt x="216" y="413"/>
                  </a:lnTo>
                  <a:lnTo>
                    <a:pt x="149" y="298"/>
                  </a:lnTo>
                  <a:lnTo>
                    <a:pt x="109" y="314"/>
                  </a:lnTo>
                  <a:lnTo>
                    <a:pt x="99" y="292"/>
                  </a:lnTo>
                  <a:lnTo>
                    <a:pt x="123" y="231"/>
                  </a:lnTo>
                  <a:lnTo>
                    <a:pt x="0" y="10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25320" y="2752560"/>
              <a:ext cx="933480" cy="685800"/>
            </a:xfrm>
            <a:prstGeom prst="rect">
              <a:avLst/>
            </a:prstGeom>
            <a:solidFill>
              <a:srgbClr val="009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49440" y="2079360"/>
              <a:ext cx="931680" cy="530280"/>
            </a:xfrm>
            <a:custGeom>
              <a:avLst/>
              <a:gdLst/>
              <a:ahLst/>
              <a:rect l="l" t="t" r="r" b="b"/>
              <a:pathLst>
                <a:path w="498" h="265">
                  <a:moveTo>
                    <a:pt x="0" y="0"/>
                  </a:moveTo>
                  <a:lnTo>
                    <a:pt x="448" y="0"/>
                  </a:lnTo>
                  <a:lnTo>
                    <a:pt x="490" y="199"/>
                  </a:lnTo>
                  <a:lnTo>
                    <a:pt x="498" y="265"/>
                  </a:lnTo>
                  <a:lnTo>
                    <a:pt x="2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50880" y="3076560"/>
              <a:ext cx="1092240" cy="484200"/>
            </a:xfrm>
            <a:custGeom>
              <a:avLst/>
              <a:gdLst/>
              <a:ahLst/>
              <a:rect l="l" t="t" r="r" b="b"/>
              <a:pathLst>
                <a:path w="583" h="263">
                  <a:moveTo>
                    <a:pt x="0" y="0"/>
                  </a:moveTo>
                  <a:lnTo>
                    <a:pt x="364" y="0"/>
                  </a:lnTo>
                  <a:lnTo>
                    <a:pt x="402" y="20"/>
                  </a:lnTo>
                  <a:lnTo>
                    <a:pt x="485" y="47"/>
                  </a:lnTo>
                  <a:lnTo>
                    <a:pt x="539" y="211"/>
                  </a:lnTo>
                  <a:lnTo>
                    <a:pt x="583" y="263"/>
                  </a:lnTo>
                  <a:lnTo>
                    <a:pt x="125" y="263"/>
                  </a:lnTo>
                  <a:lnTo>
                    <a:pt x="125" y="172"/>
                  </a:lnTo>
                  <a:lnTo>
                    <a:pt x="0" y="1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0240" y="3384360"/>
              <a:ext cx="863640" cy="609840"/>
            </a:xfrm>
            <a:prstGeom prst="rect">
              <a:avLst/>
            </a:prstGeom>
            <a:solidFill>
              <a:srgbClr val="00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33960" y="3484440"/>
              <a:ext cx="668160" cy="496800"/>
            </a:xfrm>
            <a:custGeom>
              <a:avLst/>
              <a:gdLst/>
              <a:ahLst/>
              <a:rect l="l" t="t" r="r" b="b"/>
              <a:pathLst>
                <a:path w="357" h="270">
                  <a:moveTo>
                    <a:pt x="147" y="0"/>
                  </a:moveTo>
                  <a:lnTo>
                    <a:pt x="137" y="0"/>
                  </a:lnTo>
                  <a:lnTo>
                    <a:pt x="95" y="82"/>
                  </a:lnTo>
                  <a:lnTo>
                    <a:pt x="71" y="82"/>
                  </a:lnTo>
                  <a:lnTo>
                    <a:pt x="0" y="165"/>
                  </a:lnTo>
                  <a:lnTo>
                    <a:pt x="31" y="252"/>
                  </a:lnTo>
                  <a:lnTo>
                    <a:pt x="141" y="270"/>
                  </a:lnTo>
                  <a:lnTo>
                    <a:pt x="170" y="248"/>
                  </a:lnTo>
                  <a:lnTo>
                    <a:pt x="202" y="185"/>
                  </a:lnTo>
                  <a:lnTo>
                    <a:pt x="210" y="179"/>
                  </a:lnTo>
                  <a:lnTo>
                    <a:pt x="357" y="127"/>
                  </a:lnTo>
                  <a:lnTo>
                    <a:pt x="347" y="103"/>
                  </a:lnTo>
                  <a:lnTo>
                    <a:pt x="290" y="84"/>
                  </a:lnTo>
                  <a:lnTo>
                    <a:pt x="208" y="127"/>
                  </a:lnTo>
                  <a:lnTo>
                    <a:pt x="208" y="52"/>
                  </a:lnTo>
                  <a:lnTo>
                    <a:pt x="147" y="5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17960" y="3717720"/>
              <a:ext cx="1069920" cy="376200"/>
            </a:xfrm>
            <a:custGeom>
              <a:avLst/>
              <a:gdLst/>
              <a:ahLst/>
              <a:rect l="l" t="t" r="r" b="b"/>
              <a:pathLst>
                <a:path w="571" h="204">
                  <a:moveTo>
                    <a:pt x="0" y="203"/>
                  </a:moveTo>
                  <a:lnTo>
                    <a:pt x="18" y="184"/>
                  </a:lnTo>
                  <a:lnTo>
                    <a:pt x="146" y="125"/>
                  </a:lnTo>
                  <a:lnTo>
                    <a:pt x="257" y="143"/>
                  </a:lnTo>
                  <a:lnTo>
                    <a:pt x="287" y="121"/>
                  </a:lnTo>
                  <a:lnTo>
                    <a:pt x="322" y="53"/>
                  </a:lnTo>
                  <a:lnTo>
                    <a:pt x="473" y="0"/>
                  </a:lnTo>
                  <a:lnTo>
                    <a:pt x="499" y="91"/>
                  </a:lnTo>
                  <a:lnTo>
                    <a:pt x="571" y="109"/>
                  </a:lnTo>
                  <a:lnTo>
                    <a:pt x="535" y="152"/>
                  </a:lnTo>
                  <a:lnTo>
                    <a:pt x="559" y="204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67080" y="3636720"/>
              <a:ext cx="920880" cy="490680"/>
            </a:xfrm>
            <a:custGeom>
              <a:avLst/>
              <a:gdLst/>
              <a:ahLst/>
              <a:rect l="l" t="t" r="r" b="b"/>
              <a:pathLst>
                <a:path w="492" h="266">
                  <a:moveTo>
                    <a:pt x="0" y="266"/>
                  </a:moveTo>
                  <a:lnTo>
                    <a:pt x="28" y="196"/>
                  </a:lnTo>
                  <a:lnTo>
                    <a:pt x="93" y="153"/>
                  </a:lnTo>
                  <a:lnTo>
                    <a:pt x="228" y="125"/>
                  </a:lnTo>
                  <a:lnTo>
                    <a:pt x="310" y="18"/>
                  </a:lnTo>
                  <a:lnTo>
                    <a:pt x="310" y="0"/>
                  </a:lnTo>
                  <a:lnTo>
                    <a:pt x="401" y="73"/>
                  </a:lnTo>
                  <a:lnTo>
                    <a:pt x="438" y="61"/>
                  </a:lnTo>
                  <a:lnTo>
                    <a:pt x="460" y="83"/>
                  </a:lnTo>
                  <a:lnTo>
                    <a:pt x="492" y="169"/>
                  </a:lnTo>
                  <a:lnTo>
                    <a:pt x="366" y="228"/>
                  </a:lnTo>
                  <a:lnTo>
                    <a:pt x="348" y="248"/>
                  </a:lnTo>
                  <a:lnTo>
                    <a:pt x="103" y="248"/>
                  </a:lnTo>
                  <a:lnTo>
                    <a:pt x="103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19440" y="4097160"/>
              <a:ext cx="635040" cy="557280"/>
            </a:xfrm>
            <a:custGeom>
              <a:avLst/>
              <a:gdLst/>
              <a:ahLst/>
              <a:rect l="l" t="t" r="r" b="b"/>
              <a:pathLst>
                <a:path w="339" h="303">
                  <a:moveTo>
                    <a:pt x="0" y="0"/>
                  </a:moveTo>
                  <a:lnTo>
                    <a:pt x="306" y="0"/>
                  </a:lnTo>
                  <a:lnTo>
                    <a:pt x="294" y="40"/>
                  </a:lnTo>
                  <a:lnTo>
                    <a:pt x="339" y="42"/>
                  </a:lnTo>
                  <a:lnTo>
                    <a:pt x="296" y="147"/>
                  </a:lnTo>
                  <a:lnTo>
                    <a:pt x="252" y="203"/>
                  </a:lnTo>
                  <a:lnTo>
                    <a:pt x="222" y="303"/>
                  </a:lnTo>
                  <a:lnTo>
                    <a:pt x="45" y="303"/>
                  </a:lnTo>
                  <a:lnTo>
                    <a:pt x="45" y="257"/>
                  </a:lnTo>
                  <a:lnTo>
                    <a:pt x="12" y="249"/>
                  </a:lnTo>
                  <a:lnTo>
                    <a:pt x="12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76720" y="4093920"/>
              <a:ext cx="1077840" cy="270000"/>
            </a:xfrm>
            <a:custGeom>
              <a:avLst/>
              <a:gdLst/>
              <a:ahLst/>
              <a:rect l="l" t="t" r="r" b="b"/>
              <a:pathLst>
                <a:path w="575" h="147">
                  <a:moveTo>
                    <a:pt x="51" y="16"/>
                  </a:moveTo>
                  <a:lnTo>
                    <a:pt x="151" y="16"/>
                  </a:lnTo>
                  <a:lnTo>
                    <a:pt x="151" y="0"/>
                  </a:lnTo>
                  <a:lnTo>
                    <a:pt x="575" y="0"/>
                  </a:lnTo>
                  <a:lnTo>
                    <a:pt x="567" y="32"/>
                  </a:lnTo>
                  <a:lnTo>
                    <a:pt x="397" y="105"/>
                  </a:lnTo>
                  <a:lnTo>
                    <a:pt x="381" y="147"/>
                  </a:lnTo>
                  <a:lnTo>
                    <a:pt x="0" y="147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30640" y="4303800"/>
              <a:ext cx="612720" cy="520560"/>
            </a:xfrm>
            <a:custGeom>
              <a:avLst/>
              <a:gdLst/>
              <a:ahLst/>
              <a:rect l="l" t="t" r="r" b="b"/>
              <a:pathLst>
                <a:path w="327" h="283">
                  <a:moveTo>
                    <a:pt x="13" y="34"/>
                  </a:moveTo>
                  <a:lnTo>
                    <a:pt x="47" y="0"/>
                  </a:lnTo>
                  <a:lnTo>
                    <a:pt x="147" y="0"/>
                  </a:lnTo>
                  <a:lnTo>
                    <a:pt x="158" y="20"/>
                  </a:lnTo>
                  <a:lnTo>
                    <a:pt x="234" y="20"/>
                  </a:lnTo>
                  <a:lnTo>
                    <a:pt x="327" y="121"/>
                  </a:lnTo>
                  <a:lnTo>
                    <a:pt x="242" y="210"/>
                  </a:lnTo>
                  <a:lnTo>
                    <a:pt x="178" y="232"/>
                  </a:lnTo>
                  <a:lnTo>
                    <a:pt x="170" y="283"/>
                  </a:lnTo>
                  <a:lnTo>
                    <a:pt x="137" y="224"/>
                  </a:lnTo>
                  <a:lnTo>
                    <a:pt x="0" y="62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7760" y="4365360"/>
              <a:ext cx="591840" cy="654120"/>
            </a:xfrm>
            <a:custGeom>
              <a:avLst/>
              <a:gdLst/>
              <a:ahLst/>
              <a:rect l="l" t="t" r="r" b="b"/>
              <a:pathLst>
                <a:path w="316" h="355">
                  <a:moveTo>
                    <a:pt x="0" y="0"/>
                  </a:moveTo>
                  <a:lnTo>
                    <a:pt x="159" y="0"/>
                  </a:lnTo>
                  <a:lnTo>
                    <a:pt x="146" y="28"/>
                  </a:lnTo>
                  <a:lnTo>
                    <a:pt x="283" y="190"/>
                  </a:lnTo>
                  <a:lnTo>
                    <a:pt x="316" y="249"/>
                  </a:lnTo>
                  <a:lnTo>
                    <a:pt x="275" y="355"/>
                  </a:lnTo>
                  <a:lnTo>
                    <a:pt x="57" y="355"/>
                  </a:lnTo>
                  <a:lnTo>
                    <a:pt x="35" y="311"/>
                  </a:lnTo>
                  <a:lnTo>
                    <a:pt x="23" y="255"/>
                  </a:lnTo>
                  <a:lnTo>
                    <a:pt x="45" y="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65360" y="4363920"/>
              <a:ext cx="476280" cy="682560"/>
            </a:xfrm>
            <a:custGeom>
              <a:avLst/>
              <a:gdLst/>
              <a:ahLst/>
              <a:rect l="l" t="t" r="r" b="b"/>
              <a:pathLst>
                <a:path w="255" h="371">
                  <a:moveTo>
                    <a:pt x="52" y="0"/>
                  </a:moveTo>
                  <a:lnTo>
                    <a:pt x="212" y="0"/>
                  </a:lnTo>
                  <a:lnTo>
                    <a:pt x="255" y="227"/>
                  </a:lnTo>
                  <a:lnTo>
                    <a:pt x="234" y="257"/>
                  </a:lnTo>
                  <a:lnTo>
                    <a:pt x="244" y="310"/>
                  </a:lnTo>
                  <a:lnTo>
                    <a:pt x="66" y="310"/>
                  </a:lnTo>
                  <a:lnTo>
                    <a:pt x="63" y="362"/>
                  </a:lnTo>
                  <a:lnTo>
                    <a:pt x="0" y="371"/>
                  </a:lnTo>
                  <a:lnTo>
                    <a:pt x="2" y="26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35240" y="4363920"/>
              <a:ext cx="424080" cy="738360"/>
            </a:xfrm>
            <a:custGeom>
              <a:avLst/>
              <a:gdLst/>
              <a:ahLst/>
              <a:rect l="l" t="t" r="r" b="b"/>
              <a:pathLst>
                <a:path w="227" h="401">
                  <a:moveTo>
                    <a:pt x="76" y="0"/>
                  </a:moveTo>
                  <a:lnTo>
                    <a:pt x="227" y="0"/>
                  </a:lnTo>
                  <a:lnTo>
                    <a:pt x="178" y="267"/>
                  </a:lnTo>
                  <a:lnTo>
                    <a:pt x="176" y="371"/>
                  </a:lnTo>
                  <a:lnTo>
                    <a:pt x="129" y="401"/>
                  </a:lnTo>
                  <a:lnTo>
                    <a:pt x="105" y="332"/>
                  </a:lnTo>
                  <a:lnTo>
                    <a:pt x="0" y="332"/>
                  </a:lnTo>
                  <a:lnTo>
                    <a:pt x="33" y="217"/>
                  </a:lnTo>
                  <a:lnTo>
                    <a:pt x="1" y="157"/>
                  </a:lnTo>
                  <a:lnTo>
                    <a:pt x="31" y="6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83080" y="4937040"/>
              <a:ext cx="1023840" cy="879480"/>
            </a:xfrm>
            <a:custGeom>
              <a:avLst/>
              <a:gdLst/>
              <a:ahLst/>
              <a:rect l="l" t="t" r="r" b="b"/>
              <a:pathLst>
                <a:path w="547" h="478">
                  <a:moveTo>
                    <a:pt x="2" y="0"/>
                  </a:moveTo>
                  <a:lnTo>
                    <a:pt x="182" y="0"/>
                  </a:lnTo>
                  <a:lnTo>
                    <a:pt x="206" y="48"/>
                  </a:lnTo>
                  <a:lnTo>
                    <a:pt x="424" y="48"/>
                  </a:lnTo>
                  <a:lnTo>
                    <a:pt x="430" y="90"/>
                  </a:lnTo>
                  <a:lnTo>
                    <a:pt x="507" y="229"/>
                  </a:lnTo>
                  <a:lnTo>
                    <a:pt x="537" y="330"/>
                  </a:lnTo>
                  <a:lnTo>
                    <a:pt x="547" y="400"/>
                  </a:lnTo>
                  <a:lnTo>
                    <a:pt x="471" y="472"/>
                  </a:lnTo>
                  <a:lnTo>
                    <a:pt x="408" y="478"/>
                  </a:lnTo>
                  <a:lnTo>
                    <a:pt x="390" y="332"/>
                  </a:lnTo>
                  <a:lnTo>
                    <a:pt x="370" y="334"/>
                  </a:lnTo>
                  <a:lnTo>
                    <a:pt x="308" y="246"/>
                  </a:lnTo>
                  <a:lnTo>
                    <a:pt x="322" y="173"/>
                  </a:lnTo>
                  <a:lnTo>
                    <a:pt x="252" y="94"/>
                  </a:lnTo>
                  <a:lnTo>
                    <a:pt x="160" y="117"/>
                  </a:lnTo>
                  <a:lnTo>
                    <a:pt x="89" y="54"/>
                  </a:lnTo>
                  <a:lnTo>
                    <a:pt x="0" y="5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97200" y="4640040"/>
              <a:ext cx="625320" cy="592200"/>
            </a:xfrm>
            <a:custGeom>
              <a:avLst/>
              <a:gdLst/>
              <a:ahLst/>
              <a:rect l="l" t="t" r="r" b="b"/>
              <a:pathLst>
                <a:path w="334" h="322">
                  <a:moveTo>
                    <a:pt x="3" y="0"/>
                  </a:moveTo>
                  <a:lnTo>
                    <a:pt x="182" y="0"/>
                  </a:lnTo>
                  <a:lnTo>
                    <a:pt x="213" y="62"/>
                  </a:lnTo>
                  <a:lnTo>
                    <a:pt x="180" y="178"/>
                  </a:lnTo>
                  <a:lnTo>
                    <a:pt x="285" y="178"/>
                  </a:lnTo>
                  <a:lnTo>
                    <a:pt x="309" y="249"/>
                  </a:lnTo>
                  <a:lnTo>
                    <a:pt x="334" y="322"/>
                  </a:lnTo>
                  <a:lnTo>
                    <a:pt x="193" y="314"/>
                  </a:lnTo>
                  <a:lnTo>
                    <a:pt x="23" y="250"/>
                  </a:lnTo>
                  <a:lnTo>
                    <a:pt x="43" y="200"/>
                  </a:lnTo>
                  <a:lnTo>
                    <a:pt x="0" y="99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58880" y="3981240"/>
              <a:ext cx="1079640" cy="685800"/>
            </a:xfrm>
            <a:custGeom>
              <a:avLst/>
              <a:gdLst/>
              <a:ahLst/>
              <a:rect l="l" t="t" r="r" b="b"/>
              <a:pathLst>
                <a:path w="577" h="297">
                  <a:moveTo>
                    <a:pt x="0" y="0"/>
                  </a:moveTo>
                  <a:lnTo>
                    <a:pt x="554" y="0"/>
                  </a:lnTo>
                  <a:lnTo>
                    <a:pt x="569" y="54"/>
                  </a:lnTo>
                  <a:lnTo>
                    <a:pt x="577" y="115"/>
                  </a:lnTo>
                  <a:lnTo>
                    <a:pt x="577" y="297"/>
                  </a:lnTo>
                  <a:lnTo>
                    <a:pt x="482" y="273"/>
                  </a:lnTo>
                  <a:lnTo>
                    <a:pt x="440" y="281"/>
                  </a:lnTo>
                  <a:lnTo>
                    <a:pt x="197" y="231"/>
                  </a:lnTo>
                  <a:lnTo>
                    <a:pt x="197" y="88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85840" y="4173480"/>
              <a:ext cx="1695600" cy="1474920"/>
            </a:xfrm>
            <a:custGeom>
              <a:avLst/>
              <a:gdLst/>
              <a:ahLst/>
              <a:rect l="l" t="t" r="r" b="b"/>
              <a:pathLst>
                <a:path w="905" h="802">
                  <a:moveTo>
                    <a:pt x="252" y="0"/>
                  </a:moveTo>
                  <a:lnTo>
                    <a:pt x="449" y="0"/>
                  </a:lnTo>
                  <a:lnTo>
                    <a:pt x="449" y="143"/>
                  </a:lnTo>
                  <a:lnTo>
                    <a:pt x="692" y="194"/>
                  </a:lnTo>
                  <a:lnTo>
                    <a:pt x="732" y="188"/>
                  </a:lnTo>
                  <a:lnTo>
                    <a:pt x="829" y="211"/>
                  </a:lnTo>
                  <a:lnTo>
                    <a:pt x="863" y="217"/>
                  </a:lnTo>
                  <a:lnTo>
                    <a:pt x="861" y="360"/>
                  </a:lnTo>
                  <a:lnTo>
                    <a:pt x="905" y="460"/>
                  </a:lnTo>
                  <a:lnTo>
                    <a:pt x="879" y="509"/>
                  </a:lnTo>
                  <a:lnTo>
                    <a:pt x="798" y="529"/>
                  </a:lnTo>
                  <a:lnTo>
                    <a:pt x="672" y="632"/>
                  </a:lnTo>
                  <a:lnTo>
                    <a:pt x="641" y="714"/>
                  </a:lnTo>
                  <a:lnTo>
                    <a:pt x="657" y="802"/>
                  </a:lnTo>
                  <a:lnTo>
                    <a:pt x="495" y="743"/>
                  </a:lnTo>
                  <a:lnTo>
                    <a:pt x="389" y="567"/>
                  </a:lnTo>
                  <a:lnTo>
                    <a:pt x="306" y="541"/>
                  </a:lnTo>
                  <a:lnTo>
                    <a:pt x="260" y="589"/>
                  </a:lnTo>
                  <a:lnTo>
                    <a:pt x="195" y="551"/>
                  </a:lnTo>
                  <a:lnTo>
                    <a:pt x="135" y="442"/>
                  </a:lnTo>
                  <a:lnTo>
                    <a:pt x="0" y="329"/>
                  </a:lnTo>
                  <a:lnTo>
                    <a:pt x="252" y="329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33480" y="4006800"/>
              <a:ext cx="725400" cy="888840"/>
            </a:xfrm>
            <a:custGeom>
              <a:avLst/>
              <a:gdLst/>
              <a:ahLst/>
              <a:rect l="l" t="t" r="r" b="b"/>
              <a:pathLst>
                <a:path w="387" h="487">
                  <a:moveTo>
                    <a:pt x="0" y="0"/>
                  </a:moveTo>
                  <a:lnTo>
                    <a:pt x="387" y="0"/>
                  </a:lnTo>
                  <a:lnTo>
                    <a:pt x="387" y="420"/>
                  </a:lnTo>
                  <a:lnTo>
                    <a:pt x="135" y="420"/>
                  </a:lnTo>
                  <a:lnTo>
                    <a:pt x="64" y="420"/>
                  </a:lnTo>
                  <a:lnTo>
                    <a:pt x="64" y="487"/>
                  </a:lnTo>
                  <a:lnTo>
                    <a:pt x="0" y="4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20760" y="3233520"/>
              <a:ext cx="631800" cy="784440"/>
            </a:xfrm>
            <a:custGeom>
              <a:avLst/>
              <a:gdLst/>
              <a:ahLst/>
              <a:rect l="l" t="t" r="r" b="b"/>
              <a:pathLst>
                <a:path w="332" h="426">
                  <a:moveTo>
                    <a:pt x="195" y="81"/>
                  </a:moveTo>
                  <a:lnTo>
                    <a:pt x="332" y="81"/>
                  </a:lnTo>
                  <a:lnTo>
                    <a:pt x="332" y="426"/>
                  </a:lnTo>
                  <a:lnTo>
                    <a:pt x="0" y="426"/>
                  </a:lnTo>
                  <a:lnTo>
                    <a:pt x="0" y="0"/>
                  </a:lnTo>
                  <a:lnTo>
                    <a:pt x="195" y="0"/>
                  </a:lnTo>
                  <a:lnTo>
                    <a:pt x="195" y="81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65080" y="2076480"/>
              <a:ext cx="896760" cy="547560"/>
            </a:xfrm>
            <a:custGeom>
              <a:avLst/>
              <a:gdLst/>
              <a:ahLst/>
              <a:rect l="l" t="t" r="r" b="b"/>
              <a:pathLst>
                <a:path w="479" h="298">
                  <a:moveTo>
                    <a:pt x="107" y="0"/>
                  </a:moveTo>
                  <a:lnTo>
                    <a:pt x="125" y="88"/>
                  </a:lnTo>
                  <a:lnTo>
                    <a:pt x="115" y="108"/>
                  </a:lnTo>
                  <a:lnTo>
                    <a:pt x="0" y="90"/>
                  </a:lnTo>
                  <a:lnTo>
                    <a:pt x="36" y="247"/>
                  </a:lnTo>
                  <a:lnTo>
                    <a:pt x="90" y="251"/>
                  </a:lnTo>
                  <a:lnTo>
                    <a:pt x="101" y="298"/>
                  </a:lnTo>
                  <a:lnTo>
                    <a:pt x="320" y="255"/>
                  </a:lnTo>
                  <a:lnTo>
                    <a:pt x="479" y="255"/>
                  </a:lnTo>
                  <a:lnTo>
                    <a:pt x="479" y="2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69760" y="2530440"/>
              <a:ext cx="936720" cy="701640"/>
            </a:xfrm>
            <a:custGeom>
              <a:avLst/>
              <a:gdLst/>
              <a:ahLst/>
              <a:rect l="l" t="t" r="r" b="b"/>
              <a:pathLst>
                <a:path w="501" h="381">
                  <a:moveTo>
                    <a:pt x="32" y="0"/>
                  </a:moveTo>
                  <a:lnTo>
                    <a:pt x="88" y="2"/>
                  </a:lnTo>
                  <a:lnTo>
                    <a:pt x="101" y="51"/>
                  </a:lnTo>
                  <a:lnTo>
                    <a:pt x="314" y="8"/>
                  </a:lnTo>
                  <a:lnTo>
                    <a:pt x="477" y="8"/>
                  </a:lnTo>
                  <a:lnTo>
                    <a:pt x="501" y="47"/>
                  </a:lnTo>
                  <a:lnTo>
                    <a:pt x="467" y="190"/>
                  </a:lnTo>
                  <a:lnTo>
                    <a:pt x="489" y="196"/>
                  </a:lnTo>
                  <a:lnTo>
                    <a:pt x="489" y="381"/>
                  </a:lnTo>
                  <a:lnTo>
                    <a:pt x="14" y="381"/>
                  </a:lnTo>
                  <a:lnTo>
                    <a:pt x="0" y="29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26920" y="2076480"/>
              <a:ext cx="766800" cy="1181160"/>
            </a:xfrm>
            <a:custGeom>
              <a:avLst/>
              <a:gdLst/>
              <a:ahLst/>
              <a:rect l="l" t="t" r="r" b="b"/>
              <a:pathLst>
                <a:path w="410" h="628">
                  <a:moveTo>
                    <a:pt x="12" y="0"/>
                  </a:moveTo>
                  <a:lnTo>
                    <a:pt x="84" y="0"/>
                  </a:lnTo>
                  <a:lnTo>
                    <a:pt x="84" y="104"/>
                  </a:lnTo>
                  <a:lnTo>
                    <a:pt x="205" y="233"/>
                  </a:lnTo>
                  <a:lnTo>
                    <a:pt x="180" y="290"/>
                  </a:lnTo>
                  <a:lnTo>
                    <a:pt x="190" y="316"/>
                  </a:lnTo>
                  <a:lnTo>
                    <a:pt x="235" y="300"/>
                  </a:lnTo>
                  <a:lnTo>
                    <a:pt x="299" y="413"/>
                  </a:lnTo>
                  <a:lnTo>
                    <a:pt x="410" y="380"/>
                  </a:lnTo>
                  <a:lnTo>
                    <a:pt x="410" y="628"/>
                  </a:lnTo>
                  <a:lnTo>
                    <a:pt x="211" y="628"/>
                  </a:lnTo>
                  <a:lnTo>
                    <a:pt x="24" y="628"/>
                  </a:lnTo>
                  <a:lnTo>
                    <a:pt x="24" y="443"/>
                  </a:lnTo>
                  <a:lnTo>
                    <a:pt x="0" y="439"/>
                  </a:lnTo>
                  <a:lnTo>
                    <a:pt x="36" y="296"/>
                  </a:lnTo>
                  <a:lnTo>
                    <a:pt x="12" y="25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95000" y="3233520"/>
              <a:ext cx="725760" cy="1146240"/>
            </a:xfrm>
            <a:custGeom>
              <a:avLst/>
              <a:gdLst/>
              <a:ahLst/>
              <a:rect l="l" t="t" r="r" b="b"/>
              <a:pathLst>
                <a:path w="386" h="623">
                  <a:moveTo>
                    <a:pt x="0" y="0"/>
                  </a:moveTo>
                  <a:lnTo>
                    <a:pt x="386" y="0"/>
                  </a:lnTo>
                  <a:lnTo>
                    <a:pt x="386" y="424"/>
                  </a:lnTo>
                  <a:lnTo>
                    <a:pt x="386" y="519"/>
                  </a:lnTo>
                  <a:lnTo>
                    <a:pt x="343" y="509"/>
                  </a:lnTo>
                  <a:lnTo>
                    <a:pt x="363" y="623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26800" y="4017960"/>
              <a:ext cx="706680" cy="888840"/>
            </a:xfrm>
            <a:custGeom>
              <a:avLst/>
              <a:gdLst/>
              <a:ahLst/>
              <a:rect l="l" t="t" r="r" b="b"/>
              <a:pathLst>
                <a:path w="377" h="483">
                  <a:moveTo>
                    <a:pt x="41" y="0"/>
                  </a:moveTo>
                  <a:lnTo>
                    <a:pt x="377" y="0"/>
                  </a:lnTo>
                  <a:lnTo>
                    <a:pt x="377" y="483"/>
                  </a:lnTo>
                  <a:lnTo>
                    <a:pt x="260" y="483"/>
                  </a:lnTo>
                  <a:lnTo>
                    <a:pt x="37" y="376"/>
                  </a:lnTo>
                  <a:lnTo>
                    <a:pt x="37" y="342"/>
                  </a:lnTo>
                  <a:lnTo>
                    <a:pt x="51" y="239"/>
                  </a:lnTo>
                  <a:lnTo>
                    <a:pt x="16" y="191"/>
                  </a:lnTo>
                  <a:lnTo>
                    <a:pt x="0" y="83"/>
                  </a:lnTo>
                  <a:lnTo>
                    <a:pt x="41" y="9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8080" y="3230640"/>
              <a:ext cx="1298520" cy="1420560"/>
            </a:xfrm>
            <a:custGeom>
              <a:avLst/>
              <a:gdLst/>
              <a:ahLst/>
              <a:rect l="l" t="t" r="r" b="b"/>
              <a:pathLst>
                <a:path w="693" h="772">
                  <a:moveTo>
                    <a:pt x="16" y="0"/>
                  </a:moveTo>
                  <a:lnTo>
                    <a:pt x="298" y="0"/>
                  </a:lnTo>
                  <a:lnTo>
                    <a:pt x="298" y="263"/>
                  </a:lnTo>
                  <a:lnTo>
                    <a:pt x="661" y="625"/>
                  </a:lnTo>
                  <a:lnTo>
                    <a:pt x="693" y="667"/>
                  </a:lnTo>
                  <a:lnTo>
                    <a:pt x="677" y="772"/>
                  </a:lnTo>
                  <a:lnTo>
                    <a:pt x="495" y="772"/>
                  </a:lnTo>
                  <a:lnTo>
                    <a:pt x="334" y="642"/>
                  </a:lnTo>
                  <a:lnTo>
                    <a:pt x="277" y="642"/>
                  </a:lnTo>
                  <a:lnTo>
                    <a:pt x="140" y="400"/>
                  </a:lnTo>
                  <a:lnTo>
                    <a:pt x="44" y="251"/>
                  </a:lnTo>
                  <a:lnTo>
                    <a:pt x="56" y="194"/>
                  </a:lnTo>
                  <a:lnTo>
                    <a:pt x="0" y="1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02040" y="4362480"/>
              <a:ext cx="177840" cy="339480"/>
            </a:xfrm>
            <a:custGeom>
              <a:avLst/>
              <a:gdLst/>
              <a:ahLst/>
              <a:rect l="l" t="t" r="r" b="b"/>
              <a:pathLst>
                <a:path w="95" h="184">
                  <a:moveTo>
                    <a:pt x="0" y="28"/>
                  </a:moveTo>
                  <a:lnTo>
                    <a:pt x="95" y="0"/>
                  </a:lnTo>
                  <a:lnTo>
                    <a:pt x="95" y="154"/>
                  </a:lnTo>
                  <a:lnTo>
                    <a:pt x="0" y="184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524280" y="4438440"/>
              <a:ext cx="73080" cy="397080"/>
            </a:xfrm>
            <a:custGeom>
              <a:avLst/>
              <a:gdLst/>
              <a:ahLst/>
              <a:rect l="l" t="t" r="r" b="b"/>
              <a:pathLst>
                <a:path w="38" h="215">
                  <a:moveTo>
                    <a:pt x="0" y="63"/>
                  </a:moveTo>
                  <a:lnTo>
                    <a:pt x="0" y="215"/>
                  </a:lnTo>
                  <a:lnTo>
                    <a:pt x="38" y="152"/>
                  </a:lnTo>
                  <a:lnTo>
                    <a:pt x="38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66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787640" y="4057560"/>
              <a:ext cx="838080" cy="1752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7315200" y="4896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Benn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15200" y="451476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Stewar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315200" y="413388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Brag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43320" y="606744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Ho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16560" y="169056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Sherid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2280" y="13906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Lewis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0600" y="5381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Huachuc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15200" y="5276880"/>
            <a:ext cx="13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McPher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15200" y="611496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Eglin AFB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60880" y="550080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Ruck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53280" y="22287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D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57400" y="56577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Blis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315200" y="565776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Gord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53280" y="2762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D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153280" y="3409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Belvoi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153280" y="368928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NGI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4480" y="23814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Pentag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43680" y="6145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Campbel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162920" y="21528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IN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1697040"/>
            <a:ext cx="53316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066680" y="4819320"/>
            <a:ext cx="14479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514600" y="4819680"/>
            <a:ext cx="990720" cy="838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809880" y="4819680"/>
            <a:ext cx="152640" cy="1295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5790960" y="4057560"/>
            <a:ext cx="610920" cy="20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333760" y="4971960"/>
            <a:ext cx="88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324480" y="5505120"/>
            <a:ext cx="9907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6171840" y="4971600"/>
            <a:ext cx="114300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6171840" y="4971960"/>
            <a:ext cx="11430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146280" y="4667400"/>
            <a:ext cx="12193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6095520" y="4819320"/>
            <a:ext cx="12193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781680" y="428616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705720" y="3841920"/>
            <a:ext cx="1434960" cy="139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05720" y="3587760"/>
            <a:ext cx="1409760" cy="165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705360" y="2914560"/>
            <a:ext cx="144756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705360" y="2685960"/>
            <a:ext cx="7596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7009920" y="245736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68800" y="2068560"/>
            <a:ext cx="341280" cy="130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705360" y="2457360"/>
            <a:ext cx="685800" cy="129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76240" y="3695760"/>
            <a:ext cx="2276640" cy="1009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1080" y="4667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Peterson AF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6895800" y="4019400"/>
            <a:ext cx="546120" cy="1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-24840" bIns="-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480440" y="387972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Eust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118728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123800" y="4792680"/>
            <a:ext cx="282600" cy="162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695760" y="6373800"/>
            <a:ext cx="159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Sam Hous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73200" y="15717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Car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833560" y="1925640"/>
            <a:ext cx="419400" cy="1701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65720" y="5584680"/>
            <a:ext cx="99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t Pol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749840" y="4997520"/>
            <a:ext cx="139680" cy="55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191440" y="3143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6934320" y="3321000"/>
            <a:ext cx="1231920" cy="241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6934320" y="2203560"/>
            <a:ext cx="876240" cy="1333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81960" y="19112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TF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032080" y="4840200"/>
            <a:ext cx="205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18000" y="605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Camp Shelb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823000" y="5295960"/>
            <a:ext cx="235080" cy="9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86240" y="63594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Mac Dill AF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72080" y="14256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Ohio NGB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50080" y="1789200"/>
            <a:ext cx="64800" cy="1636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9852-D82C-42E3-9DAC-FA977CDA9F95}" type="slidenum">
              <a:t>15</a:t>
            </a:fld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156960" y="1846080"/>
            <a:ext cx="657828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Keep the customer informed and trained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Do more with technology over a sustained period of time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Marshal the right tools for the right task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Leverage emerging technology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Collaborate more effectively with producers and customer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Be more technically competent than the average user (train and certify)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Provide quick cost-effective solution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971800" cy="26114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515" name=""/>
          <p:cNvSpPr/>
          <p:nvPr/>
        </p:nvSpPr>
        <p:spPr>
          <a:xfrm>
            <a:off x="6642000" y="5105520"/>
            <a:ext cx="221004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roviding a treasure chest of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687240" y="1440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ur Challenge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3D50-3696-488B-A765-DF9037CEC377}" type="slidenum">
              <a:t>16</a:t>
            </a:fld>
          </a:p>
        </p:txBody>
      </p:sp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74560" y="287928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Back up Slide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4ED9-0F4B-44E2-922A-7FF45C76B3C3}" type="slidenum">
              <a:t>17</a:t>
            </a:fld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4060800" y="1343160"/>
            <a:ext cx="1378080" cy="13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174840" y="2527200"/>
            <a:ext cx="4051440" cy="863640"/>
          </a:xfrm>
          <a:custGeom>
            <a:avLst/>
            <a:gdLst/>
            <a:ahLst/>
            <a:rect l="l" t="t" r="r" b="b"/>
            <a:pathLst>
              <a:path w="2552" h="544">
                <a:moveTo>
                  <a:pt x="0" y="544"/>
                </a:moveTo>
                <a:cubicBezTo>
                  <a:pt x="1084" y="446"/>
                  <a:pt x="2168" y="348"/>
                  <a:pt x="2360" y="264"/>
                </a:cubicBezTo>
                <a:cubicBezTo>
                  <a:pt x="2552" y="180"/>
                  <a:pt x="1371" y="80"/>
                  <a:pt x="1152" y="40"/>
                </a:cubicBezTo>
                <a:cubicBezTo>
                  <a:pt x="933" y="0"/>
                  <a:pt x="1065" y="28"/>
                  <a:pt x="1048" y="24"/>
                </a:cubicBezTo>
              </a:path>
            </a:pathLst>
          </a:custGeom>
          <a:noFill/>
          <a:ln w="38160">
            <a:solidFill>
              <a:srgbClr val="ff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074600" y="3197160"/>
            <a:ext cx="2803680" cy="10479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 flipV="1">
            <a:off x="1574640" y="3949200"/>
            <a:ext cx="787680" cy="1041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1760" y="3416400"/>
            <a:ext cx="501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Reduces hardware &amp; workspace requirements with multi-port Keyboard, Video, &amp; Mouse (KVM) Swi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8-Port KVM Switch Box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12600" y="113040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679840" y="3949560"/>
            <a:ext cx="0" cy="1168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3060360" y="3936960"/>
            <a:ext cx="1841400" cy="1015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2857320" y="3911760"/>
            <a:ext cx="888840" cy="10411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3314880" y="3924360"/>
            <a:ext cx="2666880" cy="1054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3543120" y="3822480"/>
            <a:ext cx="3555720" cy="1143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117440" y="4913280"/>
            <a:ext cx="914400" cy="1523880"/>
            <a:chOff x="1117440" y="4913280"/>
            <a:chExt cx="914400" cy="1523880"/>
          </a:xfrm>
        </p:grpSpPr>
        <p:grpSp>
          <p:nvGrpSpPr>
            <p:cNvPr id="532" name=""/>
            <p:cNvGrpSpPr/>
            <p:nvPr/>
          </p:nvGrpSpPr>
          <p:grpSpPr>
            <a:xfrm>
              <a:off x="1184040" y="4913280"/>
              <a:ext cx="792000" cy="1523880"/>
              <a:chOff x="1184040" y="4913280"/>
              <a:chExt cx="792000" cy="1523880"/>
            </a:xfrm>
          </p:grpSpPr>
          <p:sp>
            <p:nvSpPr>
              <p:cNvPr id="533" name=""/>
              <p:cNvSpPr/>
              <p:nvPr/>
            </p:nvSpPr>
            <p:spPr>
              <a:xfrm>
                <a:off x="1282320" y="5074920"/>
                <a:ext cx="57096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3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4040" y="4913280"/>
                <a:ext cx="79200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5" name=""/>
            <p:cNvSpPr/>
            <p:nvPr/>
          </p:nvSpPr>
          <p:spPr>
            <a:xfrm>
              <a:off x="1117440" y="562572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Trebuchet MS"/>
                </a:rPr>
                <a:t>NIPRNE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222640" y="4875120"/>
            <a:ext cx="914400" cy="1523880"/>
            <a:chOff x="2222640" y="4875120"/>
            <a:chExt cx="914400" cy="1523880"/>
          </a:xfrm>
        </p:grpSpPr>
        <p:grpSp>
          <p:nvGrpSpPr>
            <p:cNvPr id="537" name=""/>
            <p:cNvGrpSpPr/>
            <p:nvPr/>
          </p:nvGrpSpPr>
          <p:grpSpPr>
            <a:xfrm>
              <a:off x="2289240" y="4875120"/>
              <a:ext cx="792000" cy="1523880"/>
              <a:chOff x="2289240" y="4875120"/>
              <a:chExt cx="792000" cy="1523880"/>
            </a:xfrm>
          </p:grpSpPr>
          <p:sp>
            <p:nvSpPr>
              <p:cNvPr id="538" name=""/>
              <p:cNvSpPr/>
              <p:nvPr/>
            </p:nvSpPr>
            <p:spPr>
              <a:xfrm>
                <a:off x="2387520" y="5036760"/>
                <a:ext cx="57096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9240" y="4875120"/>
                <a:ext cx="79200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0" name=""/>
            <p:cNvSpPr/>
            <p:nvPr/>
          </p:nvSpPr>
          <p:spPr>
            <a:xfrm>
              <a:off x="2222640" y="558792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3300"/>
                  </a:solidFill>
                  <a:latin typeface="Trebuchet MS"/>
                </a:rPr>
                <a:t>SIPRNE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321000" y="4875120"/>
            <a:ext cx="914400" cy="1523880"/>
            <a:chOff x="3321000" y="4875120"/>
            <a:chExt cx="914400" cy="1523880"/>
          </a:xfrm>
        </p:grpSpPr>
        <p:grpSp>
          <p:nvGrpSpPr>
            <p:cNvPr id="542" name=""/>
            <p:cNvGrpSpPr/>
            <p:nvPr/>
          </p:nvGrpSpPr>
          <p:grpSpPr>
            <a:xfrm>
              <a:off x="3394080" y="4875120"/>
              <a:ext cx="792000" cy="1523880"/>
              <a:chOff x="3394080" y="4875120"/>
              <a:chExt cx="792000" cy="1523880"/>
            </a:xfrm>
          </p:grpSpPr>
          <p:sp>
            <p:nvSpPr>
              <p:cNvPr id="543" name=""/>
              <p:cNvSpPr/>
              <p:nvPr/>
            </p:nvSpPr>
            <p:spPr>
              <a:xfrm>
                <a:off x="3492360" y="5036760"/>
                <a:ext cx="57096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4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394080" y="4875120"/>
                <a:ext cx="79200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5" name=""/>
            <p:cNvSpPr/>
            <p:nvPr/>
          </p:nvSpPr>
          <p:spPr>
            <a:xfrm>
              <a:off x="3321000" y="558792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3300"/>
                  </a:solidFill>
                  <a:latin typeface="Trebuchet MS"/>
                </a:rPr>
                <a:t>CENTRIX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4425840" y="4875120"/>
            <a:ext cx="914400" cy="1523880"/>
            <a:chOff x="4425840" y="4875120"/>
            <a:chExt cx="914400" cy="1523880"/>
          </a:xfrm>
        </p:grpSpPr>
        <p:grpSp>
          <p:nvGrpSpPr>
            <p:cNvPr id="547" name=""/>
            <p:cNvGrpSpPr/>
            <p:nvPr/>
          </p:nvGrpSpPr>
          <p:grpSpPr>
            <a:xfrm>
              <a:off x="4498920" y="4875120"/>
              <a:ext cx="792360" cy="1523880"/>
              <a:chOff x="4498920" y="4875120"/>
              <a:chExt cx="792360" cy="1523880"/>
            </a:xfrm>
          </p:grpSpPr>
          <p:sp>
            <p:nvSpPr>
              <p:cNvPr id="548" name=""/>
              <p:cNvSpPr/>
              <p:nvPr/>
            </p:nvSpPr>
            <p:spPr>
              <a:xfrm>
                <a:off x="4597560" y="5036760"/>
                <a:ext cx="57132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8920" y="4875120"/>
                <a:ext cx="79236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0" name=""/>
            <p:cNvSpPr/>
            <p:nvPr/>
          </p:nvSpPr>
          <p:spPr>
            <a:xfrm>
              <a:off x="4425840" y="558792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9900"/>
                  </a:solidFill>
                  <a:latin typeface="Trebuchet MS"/>
                </a:rPr>
                <a:t>NSANE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492880" y="4875120"/>
            <a:ext cx="914400" cy="1523880"/>
            <a:chOff x="5492880" y="4875120"/>
            <a:chExt cx="914400" cy="1523880"/>
          </a:xfrm>
        </p:grpSpPr>
        <p:grpSp>
          <p:nvGrpSpPr>
            <p:cNvPr id="552" name=""/>
            <p:cNvGrpSpPr/>
            <p:nvPr/>
          </p:nvGrpSpPr>
          <p:grpSpPr>
            <a:xfrm>
              <a:off x="5591160" y="4875120"/>
              <a:ext cx="792000" cy="1523880"/>
              <a:chOff x="5591160" y="4875120"/>
              <a:chExt cx="792000" cy="1523880"/>
            </a:xfrm>
          </p:grpSpPr>
          <p:sp>
            <p:nvSpPr>
              <p:cNvPr id="553" name=""/>
              <p:cNvSpPr/>
              <p:nvPr/>
            </p:nvSpPr>
            <p:spPr>
              <a:xfrm>
                <a:off x="5689440" y="5036760"/>
                <a:ext cx="57096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5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1160" y="4875120"/>
                <a:ext cx="79200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5" name=""/>
            <p:cNvSpPr/>
            <p:nvPr/>
          </p:nvSpPr>
          <p:spPr>
            <a:xfrm>
              <a:off x="5492880" y="558180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Trebuchet MS"/>
                </a:rPr>
                <a:t>JWIC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6654960" y="4875120"/>
            <a:ext cx="914400" cy="1523880"/>
            <a:chOff x="6654960" y="4875120"/>
            <a:chExt cx="914400" cy="1523880"/>
          </a:xfrm>
        </p:grpSpPr>
        <p:grpSp>
          <p:nvGrpSpPr>
            <p:cNvPr id="557" name=""/>
            <p:cNvGrpSpPr/>
            <p:nvPr/>
          </p:nvGrpSpPr>
          <p:grpSpPr>
            <a:xfrm>
              <a:off x="6708600" y="4875120"/>
              <a:ext cx="792360" cy="1523880"/>
              <a:chOff x="6708600" y="4875120"/>
              <a:chExt cx="792360" cy="1523880"/>
            </a:xfrm>
          </p:grpSpPr>
          <p:sp>
            <p:nvSpPr>
              <p:cNvPr id="558" name=""/>
              <p:cNvSpPr/>
              <p:nvPr/>
            </p:nvSpPr>
            <p:spPr>
              <a:xfrm>
                <a:off x="6807240" y="5036760"/>
                <a:ext cx="571320" cy="12812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55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708600" y="4875120"/>
                <a:ext cx="792360" cy="152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0" name=""/>
            <p:cNvSpPr/>
            <p:nvPr/>
          </p:nvSpPr>
          <p:spPr>
            <a:xfrm>
              <a:off x="6654960" y="5581800"/>
              <a:ext cx="91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Trebuchet MS"/>
                </a:rPr>
                <a:t>IDCNE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16000" y="2743200"/>
            <a:ext cx="580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ybex SwitchView 8-Port KVM Switch w/OSD (1008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8D05-4A2F-46E6-B388-3998EF913040}" type="slidenum">
              <a:t>18</a:t>
            </a:fld>
          </a:p>
        </p:txBody>
      </p:sp>
    </p:spTree>
  </p:cSld>
  <p:transition>
    <p:checke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888840" y="5194440"/>
            <a:ext cx="732816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The Intelligence Community’s “One-Stop-Shop” for authorized IC classification &amp; control mark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7240" y="6516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Controlled Access Program Coordination Office (CAPCO)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133344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674720" y="5951160"/>
            <a:ext cx="5846760" cy="56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00"/>
                </a:solidFill>
                <a:latin typeface="Verdana"/>
              </a:rPr>
              <a:t>JWICS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- http://capco.dssc.ic.gov/</a:t>
            </a:r>
            <a:br>
              <a:rPr sz="1600"/>
            </a:b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SIPRNET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- http://capco.dssc.sgov.gov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Picture 27" descr=""/>
          <p:cNvPicPr/>
          <p:nvPr/>
        </p:nvPicPr>
        <p:blipFill>
          <a:blip r:embed="rId1"/>
          <a:stretch/>
        </p:blipFill>
        <p:spPr>
          <a:xfrm>
            <a:off x="291960" y="1571760"/>
            <a:ext cx="8521920" cy="3531960"/>
          </a:xfrm>
          <a:prstGeom prst="rect">
            <a:avLst/>
          </a:prstGeom>
          <a:ln w="76320">
            <a:solidFill>
              <a:srgbClr val="cc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A1C7-43A1-4528-B982-D35AA6A6B28D}" type="slidenum">
              <a:t>19</a:t>
            </a:fld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3040" y="1412640"/>
            <a:ext cx="8415360" cy="497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To service the Intelligence needs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of the Army and Intelligence</a:t>
            </a: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Community by providing: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Intelligence Web &amp; Portal Services,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Access Information &amp; Disseminatio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Management, and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DoD Intelligence Production Requirements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7240" y="3924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ur Mission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0F02-B80D-4E66-A6D0-73336D7CEF5F}" type="slidenum">
              <a:t>2</a:t>
            </a:fld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01520" y="2868480"/>
            <a:ext cx="533232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DDS allows (operational) JWICS users to browse-down using a web browser proxy setting and see SIPRNET and StoneGhost through any common JWICS 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DDS also allows data to be searched and saved from SIPRNET and StoneGhost to your common JWICS 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Future MDDS versions (PKI enabled) will allow users the capability to </a:t>
            </a:r>
            <a:r>
              <a:rPr b="1" lang="en-US" sz="1800" spc="-1" strike="noStrike" u="sng">
                <a:solidFill>
                  <a:srgbClr val="ffffcc"/>
                </a:solidFill>
                <a:uFillTx/>
                <a:latin typeface="Verdana"/>
              </a:rPr>
              <a:t>write-down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 or </a:t>
            </a:r>
            <a:r>
              <a:rPr b="1" lang="en-US" sz="1800" spc="-1" strike="noStrike" u="sng">
                <a:solidFill>
                  <a:srgbClr val="ffffcc"/>
                </a:solidFill>
                <a:uFillTx/>
                <a:latin typeface="Verdana"/>
              </a:rPr>
              <a:t>push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 to SIPRNET or StoneGhost from JW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Multi Domain Dissemination System, or MDD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569" name="Picture 8" descr=""/>
          <p:cNvPicPr/>
          <p:nvPr/>
        </p:nvPicPr>
        <p:blipFill>
          <a:blip r:embed="rId1"/>
          <a:stretch/>
        </p:blipFill>
        <p:spPr>
          <a:xfrm>
            <a:off x="1432080" y="1670040"/>
            <a:ext cx="6548400" cy="1079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570" name=""/>
          <p:cNvGrpSpPr/>
          <p:nvPr/>
        </p:nvGrpSpPr>
        <p:grpSpPr>
          <a:xfrm>
            <a:off x="5378400" y="3147840"/>
            <a:ext cx="3621240" cy="2720880"/>
            <a:chOff x="5378400" y="3147840"/>
            <a:chExt cx="3621240" cy="2720880"/>
          </a:xfrm>
        </p:grpSpPr>
        <p:sp>
          <p:nvSpPr>
            <p:cNvPr id="571" name=""/>
            <p:cNvSpPr/>
            <p:nvPr/>
          </p:nvSpPr>
          <p:spPr>
            <a:xfrm>
              <a:off x="5379840" y="5516280"/>
              <a:ext cx="3617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Verdana"/>
                </a:rPr>
                <a:t>http://mdds.dia.ic.gov/ho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2"/>
            <a:stretch/>
          </p:blipFill>
          <p:spPr>
            <a:xfrm>
              <a:off x="5378400" y="3147840"/>
              <a:ext cx="3621240" cy="23961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573" name=""/>
          <p:cNvSpPr/>
          <p:nvPr/>
        </p:nvSpPr>
        <p:spPr>
          <a:xfrm>
            <a:off x="0" y="135900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0E51-A0A1-4019-BA37-CD170CDC4F8A}" type="slidenum">
              <a:t>20</a:t>
            </a:fld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66760" y="1595520"/>
            <a:ext cx="85741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 Public Key Infrastructure (PKI) provide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Access Control (protection against unauthorized acces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Authentication (protection against user, client, or server spoof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Confidentiality (protection against unauthorized disclosure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Integrity (protection against unauthorized modification)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PKI technology on all networks -- JWICS, NSANET, SIPRNET, NIPRNET.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Public Key Infrastructure (PKI)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135900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33240" y="4029840"/>
            <a:ext cx="7624800" cy="25095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or more information visit the following web pages at: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cccc00"/>
                </a:solidFill>
                <a:latin typeface="Verdana"/>
              </a:rPr>
              <a:t>JWICS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http://www.dia.ic.gov/proj/dodiis/pki/toc-pki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NSANET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https://arsonfire.q.nsa/pki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SIPRNET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http://reg.c3pki.chamb.disa.smil.mil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9900"/>
                </a:solidFill>
                <a:latin typeface="Verdana"/>
              </a:rPr>
              <a:t>NIPRNET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– http://www.dodpke.com/public/publicAccess.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71FF-4F23-4E4A-911A-E4FD5E9A13D4}" type="slidenum">
              <a:t>21</a:t>
            </a:fld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7240" y="103320"/>
            <a:ext cx="7770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Army Trusted Agents Process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9" name=""/>
          <p:cNvSpPr/>
          <p:nvPr/>
        </p:nvSpPr>
        <p:spPr>
          <a:xfrm>
            <a:off x="12600" y="116856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46520" y="3365640"/>
            <a:ext cx="453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At Unit’s Home/Deployed S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54560" y="3675240"/>
            <a:ext cx="55879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Users complete Army FSD registration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SO verifies FSD registration and approves 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Request is submitted to Army FSD Account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rmy FSD auto updates information to DoDIIS FS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Once user appears in the DoDIIS FSD, the Trusted Agent can then retrieve &amp; issue the user their P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Trusted Agent obtains signed PKI User Agreement Form &amp; forwards original to DIA PKI Program Mana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521240" y="2328840"/>
            <a:ext cx="662040" cy="709200"/>
            <a:chOff x="4521240" y="2328840"/>
            <a:chExt cx="662040" cy="709200"/>
          </a:xfrm>
        </p:grpSpPr>
        <p:sp>
          <p:nvSpPr>
            <p:cNvPr id="583" name=""/>
            <p:cNvSpPr/>
            <p:nvPr/>
          </p:nvSpPr>
          <p:spPr>
            <a:xfrm>
              <a:off x="4620600" y="2328840"/>
              <a:ext cx="257400" cy="145800"/>
            </a:xfrm>
            <a:custGeom>
              <a:avLst/>
              <a:gdLst/>
              <a:ahLst/>
              <a:rect l="l" t="t" r="r" b="b"/>
              <a:pathLst>
                <a:path w="1169" h="837">
                  <a:moveTo>
                    <a:pt x="67" y="131"/>
                  </a:moveTo>
                  <a:lnTo>
                    <a:pt x="28" y="198"/>
                  </a:lnTo>
                  <a:lnTo>
                    <a:pt x="0" y="306"/>
                  </a:lnTo>
                  <a:lnTo>
                    <a:pt x="0" y="381"/>
                  </a:lnTo>
                  <a:lnTo>
                    <a:pt x="16" y="464"/>
                  </a:lnTo>
                  <a:lnTo>
                    <a:pt x="43" y="541"/>
                  </a:lnTo>
                  <a:lnTo>
                    <a:pt x="61" y="574"/>
                  </a:lnTo>
                  <a:lnTo>
                    <a:pt x="113" y="642"/>
                  </a:lnTo>
                  <a:lnTo>
                    <a:pt x="184" y="709"/>
                  </a:lnTo>
                  <a:lnTo>
                    <a:pt x="301" y="788"/>
                  </a:lnTo>
                  <a:lnTo>
                    <a:pt x="381" y="822"/>
                  </a:lnTo>
                  <a:lnTo>
                    <a:pt x="551" y="837"/>
                  </a:lnTo>
                  <a:lnTo>
                    <a:pt x="664" y="824"/>
                  </a:lnTo>
                  <a:lnTo>
                    <a:pt x="719" y="804"/>
                  </a:lnTo>
                  <a:lnTo>
                    <a:pt x="798" y="729"/>
                  </a:lnTo>
                  <a:lnTo>
                    <a:pt x="816" y="717"/>
                  </a:lnTo>
                  <a:lnTo>
                    <a:pt x="834" y="709"/>
                  </a:lnTo>
                  <a:lnTo>
                    <a:pt x="874" y="703"/>
                  </a:lnTo>
                  <a:lnTo>
                    <a:pt x="981" y="727"/>
                  </a:lnTo>
                  <a:lnTo>
                    <a:pt x="1041" y="757"/>
                  </a:lnTo>
                  <a:lnTo>
                    <a:pt x="1066" y="772"/>
                  </a:lnTo>
                  <a:lnTo>
                    <a:pt x="1078" y="776"/>
                  </a:lnTo>
                  <a:lnTo>
                    <a:pt x="1090" y="776"/>
                  </a:lnTo>
                  <a:lnTo>
                    <a:pt x="1102" y="772"/>
                  </a:lnTo>
                  <a:lnTo>
                    <a:pt x="1139" y="745"/>
                  </a:lnTo>
                  <a:lnTo>
                    <a:pt x="1159" y="721"/>
                  </a:lnTo>
                  <a:lnTo>
                    <a:pt x="1165" y="709"/>
                  </a:lnTo>
                  <a:lnTo>
                    <a:pt x="1169" y="696"/>
                  </a:lnTo>
                  <a:lnTo>
                    <a:pt x="1169" y="675"/>
                  </a:lnTo>
                  <a:lnTo>
                    <a:pt x="1159" y="650"/>
                  </a:lnTo>
                  <a:lnTo>
                    <a:pt x="1141" y="632"/>
                  </a:lnTo>
                  <a:lnTo>
                    <a:pt x="1120" y="616"/>
                  </a:lnTo>
                  <a:lnTo>
                    <a:pt x="1105" y="614"/>
                  </a:lnTo>
                  <a:lnTo>
                    <a:pt x="975" y="616"/>
                  </a:lnTo>
                  <a:lnTo>
                    <a:pt x="949" y="610"/>
                  </a:lnTo>
                  <a:lnTo>
                    <a:pt x="910" y="586"/>
                  </a:lnTo>
                  <a:lnTo>
                    <a:pt x="895" y="574"/>
                  </a:lnTo>
                  <a:lnTo>
                    <a:pt x="889" y="571"/>
                  </a:lnTo>
                  <a:lnTo>
                    <a:pt x="883" y="565"/>
                  </a:lnTo>
                  <a:lnTo>
                    <a:pt x="883" y="561"/>
                  </a:lnTo>
                  <a:lnTo>
                    <a:pt x="880" y="559"/>
                  </a:lnTo>
                  <a:lnTo>
                    <a:pt x="880" y="549"/>
                  </a:lnTo>
                  <a:lnTo>
                    <a:pt x="870" y="498"/>
                  </a:lnTo>
                  <a:lnTo>
                    <a:pt x="870" y="474"/>
                  </a:lnTo>
                  <a:lnTo>
                    <a:pt x="858" y="387"/>
                  </a:lnTo>
                  <a:lnTo>
                    <a:pt x="850" y="360"/>
                  </a:lnTo>
                  <a:lnTo>
                    <a:pt x="816" y="287"/>
                  </a:lnTo>
                  <a:lnTo>
                    <a:pt x="747" y="189"/>
                  </a:lnTo>
                  <a:lnTo>
                    <a:pt x="648" y="103"/>
                  </a:lnTo>
                  <a:lnTo>
                    <a:pt x="523" y="33"/>
                  </a:lnTo>
                  <a:lnTo>
                    <a:pt x="457" y="12"/>
                  </a:lnTo>
                  <a:lnTo>
                    <a:pt x="387" y="0"/>
                  </a:lnTo>
                  <a:lnTo>
                    <a:pt x="271" y="0"/>
                  </a:lnTo>
                  <a:lnTo>
                    <a:pt x="235" y="6"/>
                  </a:lnTo>
                  <a:lnTo>
                    <a:pt x="171" y="30"/>
                  </a:lnTo>
                  <a:lnTo>
                    <a:pt x="117" y="73"/>
                  </a:lnTo>
                  <a:lnTo>
                    <a:pt x="6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53000" y="2495880"/>
              <a:ext cx="239040" cy="271080"/>
            </a:xfrm>
            <a:custGeom>
              <a:avLst/>
              <a:gdLst/>
              <a:ahLst/>
              <a:rect l="l" t="t" r="r" b="b"/>
              <a:pathLst>
                <a:path w="1083" h="1559">
                  <a:moveTo>
                    <a:pt x="261" y="75"/>
                  </a:moveTo>
                  <a:lnTo>
                    <a:pt x="206" y="144"/>
                  </a:lnTo>
                  <a:lnTo>
                    <a:pt x="109" y="350"/>
                  </a:lnTo>
                  <a:lnTo>
                    <a:pt x="21" y="667"/>
                  </a:lnTo>
                  <a:lnTo>
                    <a:pt x="0" y="841"/>
                  </a:lnTo>
                  <a:lnTo>
                    <a:pt x="0" y="899"/>
                  </a:lnTo>
                  <a:lnTo>
                    <a:pt x="27" y="1077"/>
                  </a:lnTo>
                  <a:lnTo>
                    <a:pt x="85" y="1247"/>
                  </a:lnTo>
                  <a:lnTo>
                    <a:pt x="140" y="1339"/>
                  </a:lnTo>
                  <a:lnTo>
                    <a:pt x="210" y="1413"/>
                  </a:lnTo>
                  <a:lnTo>
                    <a:pt x="334" y="1492"/>
                  </a:lnTo>
                  <a:lnTo>
                    <a:pt x="469" y="1541"/>
                  </a:lnTo>
                  <a:lnTo>
                    <a:pt x="602" y="1559"/>
                  </a:lnTo>
                  <a:lnTo>
                    <a:pt x="736" y="1547"/>
                  </a:lnTo>
                  <a:lnTo>
                    <a:pt x="870" y="1519"/>
                  </a:lnTo>
                  <a:lnTo>
                    <a:pt x="921" y="1498"/>
                  </a:lnTo>
                  <a:lnTo>
                    <a:pt x="967" y="1470"/>
                  </a:lnTo>
                  <a:lnTo>
                    <a:pt x="1004" y="1431"/>
                  </a:lnTo>
                  <a:lnTo>
                    <a:pt x="1050" y="1345"/>
                  </a:lnTo>
                  <a:lnTo>
                    <a:pt x="1062" y="1312"/>
                  </a:lnTo>
                  <a:lnTo>
                    <a:pt x="1083" y="1211"/>
                  </a:lnTo>
                  <a:lnTo>
                    <a:pt x="1083" y="1180"/>
                  </a:lnTo>
                  <a:lnTo>
                    <a:pt x="1076" y="1122"/>
                  </a:lnTo>
                  <a:lnTo>
                    <a:pt x="1056" y="1071"/>
                  </a:lnTo>
                  <a:lnTo>
                    <a:pt x="998" y="978"/>
                  </a:lnTo>
                  <a:lnTo>
                    <a:pt x="961" y="948"/>
                  </a:lnTo>
                  <a:lnTo>
                    <a:pt x="828" y="893"/>
                  </a:lnTo>
                  <a:lnTo>
                    <a:pt x="748" y="850"/>
                  </a:lnTo>
                  <a:lnTo>
                    <a:pt x="699" y="814"/>
                  </a:lnTo>
                  <a:lnTo>
                    <a:pt x="687" y="802"/>
                  </a:lnTo>
                  <a:lnTo>
                    <a:pt x="672" y="774"/>
                  </a:lnTo>
                  <a:lnTo>
                    <a:pt x="663" y="747"/>
                  </a:lnTo>
                  <a:lnTo>
                    <a:pt x="663" y="679"/>
                  </a:lnTo>
                  <a:lnTo>
                    <a:pt x="681" y="593"/>
                  </a:lnTo>
                  <a:lnTo>
                    <a:pt x="776" y="312"/>
                  </a:lnTo>
                  <a:lnTo>
                    <a:pt x="782" y="285"/>
                  </a:lnTo>
                  <a:lnTo>
                    <a:pt x="784" y="257"/>
                  </a:lnTo>
                  <a:lnTo>
                    <a:pt x="782" y="209"/>
                  </a:lnTo>
                  <a:lnTo>
                    <a:pt x="769" y="166"/>
                  </a:lnTo>
                  <a:lnTo>
                    <a:pt x="748" y="126"/>
                  </a:lnTo>
                  <a:lnTo>
                    <a:pt x="723" y="93"/>
                  </a:lnTo>
                  <a:lnTo>
                    <a:pt x="693" y="65"/>
                  </a:lnTo>
                  <a:lnTo>
                    <a:pt x="654" y="44"/>
                  </a:lnTo>
                  <a:lnTo>
                    <a:pt x="566" y="14"/>
                  </a:lnTo>
                  <a:lnTo>
                    <a:pt x="471" y="0"/>
                  </a:lnTo>
                  <a:lnTo>
                    <a:pt x="422" y="4"/>
                  </a:lnTo>
                  <a:lnTo>
                    <a:pt x="376" y="14"/>
                  </a:lnTo>
                  <a:lnTo>
                    <a:pt x="298" y="47"/>
                  </a:lnTo>
                  <a:lnTo>
                    <a:pt x="279" y="59"/>
                  </a:lnTo>
                  <a:lnTo>
                    <a:pt x="2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64960" y="2504160"/>
              <a:ext cx="418320" cy="127800"/>
            </a:xfrm>
            <a:custGeom>
              <a:avLst/>
              <a:gdLst/>
              <a:ahLst/>
              <a:rect l="l" t="t" r="r" b="b"/>
              <a:pathLst>
                <a:path w="1898" h="733">
                  <a:moveTo>
                    <a:pt x="93" y="0"/>
                  </a:moveTo>
                  <a:lnTo>
                    <a:pt x="73" y="6"/>
                  </a:lnTo>
                  <a:lnTo>
                    <a:pt x="55" y="15"/>
                  </a:lnTo>
                  <a:lnTo>
                    <a:pt x="40" y="27"/>
                  </a:lnTo>
                  <a:lnTo>
                    <a:pt x="16" y="58"/>
                  </a:lnTo>
                  <a:lnTo>
                    <a:pt x="7" y="76"/>
                  </a:lnTo>
                  <a:lnTo>
                    <a:pt x="0" y="106"/>
                  </a:lnTo>
                  <a:lnTo>
                    <a:pt x="0" y="128"/>
                  </a:lnTo>
                  <a:lnTo>
                    <a:pt x="7" y="171"/>
                  </a:lnTo>
                  <a:lnTo>
                    <a:pt x="16" y="193"/>
                  </a:lnTo>
                  <a:lnTo>
                    <a:pt x="28" y="213"/>
                  </a:lnTo>
                  <a:lnTo>
                    <a:pt x="46" y="232"/>
                  </a:lnTo>
                  <a:lnTo>
                    <a:pt x="71" y="250"/>
                  </a:lnTo>
                  <a:lnTo>
                    <a:pt x="192" y="294"/>
                  </a:lnTo>
                  <a:lnTo>
                    <a:pt x="844" y="470"/>
                  </a:lnTo>
                  <a:lnTo>
                    <a:pt x="1034" y="504"/>
                  </a:lnTo>
                  <a:lnTo>
                    <a:pt x="1117" y="519"/>
                  </a:lnTo>
                  <a:lnTo>
                    <a:pt x="1147" y="529"/>
                  </a:lnTo>
                  <a:lnTo>
                    <a:pt x="1157" y="529"/>
                  </a:lnTo>
                  <a:lnTo>
                    <a:pt x="1163" y="531"/>
                  </a:lnTo>
                  <a:lnTo>
                    <a:pt x="1169" y="541"/>
                  </a:lnTo>
                  <a:lnTo>
                    <a:pt x="1171" y="547"/>
                  </a:lnTo>
                  <a:lnTo>
                    <a:pt x="1177" y="556"/>
                  </a:lnTo>
                  <a:lnTo>
                    <a:pt x="1184" y="590"/>
                  </a:lnTo>
                  <a:lnTo>
                    <a:pt x="1184" y="657"/>
                  </a:lnTo>
                  <a:lnTo>
                    <a:pt x="1187" y="677"/>
                  </a:lnTo>
                  <a:lnTo>
                    <a:pt x="1193" y="697"/>
                  </a:lnTo>
                  <a:lnTo>
                    <a:pt x="1202" y="709"/>
                  </a:lnTo>
                  <a:lnTo>
                    <a:pt x="1214" y="718"/>
                  </a:lnTo>
                  <a:lnTo>
                    <a:pt x="1232" y="724"/>
                  </a:lnTo>
                  <a:lnTo>
                    <a:pt x="1272" y="733"/>
                  </a:lnTo>
                  <a:lnTo>
                    <a:pt x="1315" y="730"/>
                  </a:lnTo>
                  <a:lnTo>
                    <a:pt x="1355" y="721"/>
                  </a:lnTo>
                  <a:lnTo>
                    <a:pt x="1373" y="711"/>
                  </a:lnTo>
                  <a:lnTo>
                    <a:pt x="1424" y="665"/>
                  </a:lnTo>
                  <a:lnTo>
                    <a:pt x="1494" y="586"/>
                  </a:lnTo>
                  <a:lnTo>
                    <a:pt x="1500" y="577"/>
                  </a:lnTo>
                  <a:lnTo>
                    <a:pt x="1512" y="562"/>
                  </a:lnTo>
                  <a:lnTo>
                    <a:pt x="1518" y="556"/>
                  </a:lnTo>
                  <a:lnTo>
                    <a:pt x="1528" y="549"/>
                  </a:lnTo>
                  <a:lnTo>
                    <a:pt x="1555" y="543"/>
                  </a:lnTo>
                  <a:lnTo>
                    <a:pt x="1607" y="543"/>
                  </a:lnTo>
                  <a:lnTo>
                    <a:pt x="1768" y="562"/>
                  </a:lnTo>
                  <a:lnTo>
                    <a:pt x="1832" y="559"/>
                  </a:lnTo>
                  <a:lnTo>
                    <a:pt x="1862" y="553"/>
                  </a:lnTo>
                  <a:lnTo>
                    <a:pt x="1884" y="543"/>
                  </a:lnTo>
                  <a:lnTo>
                    <a:pt x="1896" y="531"/>
                  </a:lnTo>
                  <a:lnTo>
                    <a:pt x="1898" y="523"/>
                  </a:lnTo>
                  <a:lnTo>
                    <a:pt x="1898" y="510"/>
                  </a:lnTo>
                  <a:lnTo>
                    <a:pt x="1892" y="482"/>
                  </a:lnTo>
                  <a:lnTo>
                    <a:pt x="1878" y="458"/>
                  </a:lnTo>
                  <a:lnTo>
                    <a:pt x="1868" y="446"/>
                  </a:lnTo>
                  <a:lnTo>
                    <a:pt x="1859" y="440"/>
                  </a:lnTo>
                  <a:lnTo>
                    <a:pt x="1835" y="434"/>
                  </a:lnTo>
                  <a:lnTo>
                    <a:pt x="1500" y="446"/>
                  </a:lnTo>
                  <a:lnTo>
                    <a:pt x="1208" y="428"/>
                  </a:lnTo>
                  <a:lnTo>
                    <a:pt x="919" y="373"/>
                  </a:lnTo>
                  <a:lnTo>
                    <a:pt x="563" y="250"/>
                  </a:lnTo>
                  <a:lnTo>
                    <a:pt x="299" y="126"/>
                  </a:lnTo>
                  <a:lnTo>
                    <a:pt x="177" y="37"/>
                  </a:lnTo>
                  <a:lnTo>
                    <a:pt x="156" y="18"/>
                  </a:lnTo>
                  <a:lnTo>
                    <a:pt x="135" y="6"/>
                  </a:lnTo>
                  <a:lnTo>
                    <a:pt x="11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521240" y="2501280"/>
              <a:ext cx="216360" cy="190080"/>
            </a:xfrm>
            <a:custGeom>
              <a:avLst/>
              <a:gdLst/>
              <a:ahLst/>
              <a:rect l="l" t="t" r="r" b="b"/>
              <a:pathLst>
                <a:path w="983" h="1090">
                  <a:moveTo>
                    <a:pt x="916" y="2"/>
                  </a:moveTo>
                  <a:lnTo>
                    <a:pt x="791" y="45"/>
                  </a:lnTo>
                  <a:lnTo>
                    <a:pt x="353" y="225"/>
                  </a:lnTo>
                  <a:lnTo>
                    <a:pt x="192" y="306"/>
                  </a:lnTo>
                  <a:lnTo>
                    <a:pt x="117" y="366"/>
                  </a:lnTo>
                  <a:lnTo>
                    <a:pt x="49" y="446"/>
                  </a:lnTo>
                  <a:lnTo>
                    <a:pt x="25" y="488"/>
                  </a:lnTo>
                  <a:lnTo>
                    <a:pt x="0" y="577"/>
                  </a:lnTo>
                  <a:lnTo>
                    <a:pt x="6" y="616"/>
                  </a:lnTo>
                  <a:lnTo>
                    <a:pt x="16" y="632"/>
                  </a:lnTo>
                  <a:lnTo>
                    <a:pt x="31" y="647"/>
                  </a:lnTo>
                  <a:lnTo>
                    <a:pt x="111" y="689"/>
                  </a:lnTo>
                  <a:lnTo>
                    <a:pt x="141" y="715"/>
                  </a:lnTo>
                  <a:lnTo>
                    <a:pt x="162" y="745"/>
                  </a:lnTo>
                  <a:lnTo>
                    <a:pt x="177" y="776"/>
                  </a:lnTo>
                  <a:lnTo>
                    <a:pt x="186" y="809"/>
                  </a:lnTo>
                  <a:lnTo>
                    <a:pt x="189" y="843"/>
                  </a:lnTo>
                  <a:lnTo>
                    <a:pt x="186" y="861"/>
                  </a:lnTo>
                  <a:lnTo>
                    <a:pt x="119" y="974"/>
                  </a:lnTo>
                  <a:lnTo>
                    <a:pt x="117" y="989"/>
                  </a:lnTo>
                  <a:lnTo>
                    <a:pt x="117" y="1001"/>
                  </a:lnTo>
                  <a:lnTo>
                    <a:pt x="119" y="1017"/>
                  </a:lnTo>
                  <a:lnTo>
                    <a:pt x="131" y="1039"/>
                  </a:lnTo>
                  <a:lnTo>
                    <a:pt x="147" y="1057"/>
                  </a:lnTo>
                  <a:lnTo>
                    <a:pt x="165" y="1069"/>
                  </a:lnTo>
                  <a:lnTo>
                    <a:pt x="183" y="1075"/>
                  </a:lnTo>
                  <a:lnTo>
                    <a:pt x="204" y="1072"/>
                  </a:lnTo>
                  <a:lnTo>
                    <a:pt x="226" y="1063"/>
                  </a:lnTo>
                  <a:lnTo>
                    <a:pt x="234" y="1057"/>
                  </a:lnTo>
                  <a:lnTo>
                    <a:pt x="244" y="1045"/>
                  </a:lnTo>
                  <a:lnTo>
                    <a:pt x="250" y="1029"/>
                  </a:lnTo>
                  <a:lnTo>
                    <a:pt x="259" y="956"/>
                  </a:lnTo>
                  <a:lnTo>
                    <a:pt x="259" y="928"/>
                  </a:lnTo>
                  <a:lnTo>
                    <a:pt x="268" y="873"/>
                  </a:lnTo>
                  <a:lnTo>
                    <a:pt x="274" y="867"/>
                  </a:lnTo>
                  <a:lnTo>
                    <a:pt x="280" y="863"/>
                  </a:lnTo>
                  <a:lnTo>
                    <a:pt x="295" y="871"/>
                  </a:lnTo>
                  <a:lnTo>
                    <a:pt x="311" y="889"/>
                  </a:lnTo>
                  <a:lnTo>
                    <a:pt x="323" y="910"/>
                  </a:lnTo>
                  <a:lnTo>
                    <a:pt x="327" y="925"/>
                  </a:lnTo>
                  <a:lnTo>
                    <a:pt x="329" y="946"/>
                  </a:lnTo>
                  <a:lnTo>
                    <a:pt x="329" y="1017"/>
                  </a:lnTo>
                  <a:lnTo>
                    <a:pt x="335" y="1057"/>
                  </a:lnTo>
                  <a:lnTo>
                    <a:pt x="341" y="1069"/>
                  </a:lnTo>
                  <a:lnTo>
                    <a:pt x="351" y="1078"/>
                  </a:lnTo>
                  <a:lnTo>
                    <a:pt x="363" y="1084"/>
                  </a:lnTo>
                  <a:lnTo>
                    <a:pt x="393" y="1090"/>
                  </a:lnTo>
                  <a:lnTo>
                    <a:pt x="436" y="1084"/>
                  </a:lnTo>
                  <a:lnTo>
                    <a:pt x="460" y="1072"/>
                  </a:lnTo>
                  <a:lnTo>
                    <a:pt x="472" y="1057"/>
                  </a:lnTo>
                  <a:lnTo>
                    <a:pt x="478" y="1035"/>
                  </a:lnTo>
                  <a:lnTo>
                    <a:pt x="478" y="1023"/>
                  </a:lnTo>
                  <a:lnTo>
                    <a:pt x="475" y="1007"/>
                  </a:lnTo>
                  <a:lnTo>
                    <a:pt x="469" y="989"/>
                  </a:lnTo>
                  <a:lnTo>
                    <a:pt x="384" y="837"/>
                  </a:lnTo>
                  <a:lnTo>
                    <a:pt x="375" y="803"/>
                  </a:lnTo>
                  <a:lnTo>
                    <a:pt x="375" y="794"/>
                  </a:lnTo>
                  <a:lnTo>
                    <a:pt x="378" y="778"/>
                  </a:lnTo>
                  <a:lnTo>
                    <a:pt x="408" y="757"/>
                  </a:lnTo>
                  <a:lnTo>
                    <a:pt x="436" y="745"/>
                  </a:lnTo>
                  <a:lnTo>
                    <a:pt x="511" y="729"/>
                  </a:lnTo>
                  <a:lnTo>
                    <a:pt x="527" y="723"/>
                  </a:lnTo>
                  <a:lnTo>
                    <a:pt x="535" y="715"/>
                  </a:lnTo>
                  <a:lnTo>
                    <a:pt x="541" y="705"/>
                  </a:lnTo>
                  <a:lnTo>
                    <a:pt x="545" y="693"/>
                  </a:lnTo>
                  <a:lnTo>
                    <a:pt x="545" y="662"/>
                  </a:lnTo>
                  <a:lnTo>
                    <a:pt x="539" y="635"/>
                  </a:lnTo>
                  <a:lnTo>
                    <a:pt x="535" y="626"/>
                  </a:lnTo>
                  <a:lnTo>
                    <a:pt x="529" y="616"/>
                  </a:lnTo>
                  <a:lnTo>
                    <a:pt x="517" y="604"/>
                  </a:lnTo>
                  <a:lnTo>
                    <a:pt x="503" y="595"/>
                  </a:lnTo>
                  <a:lnTo>
                    <a:pt x="481" y="592"/>
                  </a:lnTo>
                  <a:lnTo>
                    <a:pt x="463" y="598"/>
                  </a:lnTo>
                  <a:lnTo>
                    <a:pt x="454" y="604"/>
                  </a:lnTo>
                  <a:lnTo>
                    <a:pt x="402" y="671"/>
                  </a:lnTo>
                  <a:lnTo>
                    <a:pt x="390" y="683"/>
                  </a:lnTo>
                  <a:lnTo>
                    <a:pt x="378" y="689"/>
                  </a:lnTo>
                  <a:lnTo>
                    <a:pt x="365" y="693"/>
                  </a:lnTo>
                  <a:lnTo>
                    <a:pt x="351" y="693"/>
                  </a:lnTo>
                  <a:lnTo>
                    <a:pt x="319" y="687"/>
                  </a:lnTo>
                  <a:lnTo>
                    <a:pt x="222" y="653"/>
                  </a:lnTo>
                  <a:lnTo>
                    <a:pt x="189" y="635"/>
                  </a:lnTo>
                  <a:lnTo>
                    <a:pt x="149" y="608"/>
                  </a:lnTo>
                  <a:lnTo>
                    <a:pt x="141" y="598"/>
                  </a:lnTo>
                  <a:lnTo>
                    <a:pt x="131" y="580"/>
                  </a:lnTo>
                  <a:lnTo>
                    <a:pt x="129" y="561"/>
                  </a:lnTo>
                  <a:lnTo>
                    <a:pt x="135" y="541"/>
                  </a:lnTo>
                  <a:lnTo>
                    <a:pt x="147" y="519"/>
                  </a:lnTo>
                  <a:lnTo>
                    <a:pt x="186" y="466"/>
                  </a:lnTo>
                  <a:lnTo>
                    <a:pt x="216" y="440"/>
                  </a:lnTo>
                  <a:lnTo>
                    <a:pt x="262" y="409"/>
                  </a:lnTo>
                  <a:lnTo>
                    <a:pt x="327" y="375"/>
                  </a:lnTo>
                  <a:lnTo>
                    <a:pt x="567" y="280"/>
                  </a:lnTo>
                  <a:lnTo>
                    <a:pt x="640" y="265"/>
                  </a:lnTo>
                  <a:lnTo>
                    <a:pt x="783" y="256"/>
                  </a:lnTo>
                  <a:lnTo>
                    <a:pt x="840" y="244"/>
                  </a:lnTo>
                  <a:lnTo>
                    <a:pt x="886" y="219"/>
                  </a:lnTo>
                  <a:lnTo>
                    <a:pt x="922" y="192"/>
                  </a:lnTo>
                  <a:lnTo>
                    <a:pt x="949" y="158"/>
                  </a:lnTo>
                  <a:lnTo>
                    <a:pt x="967" y="128"/>
                  </a:lnTo>
                  <a:lnTo>
                    <a:pt x="981" y="91"/>
                  </a:lnTo>
                  <a:lnTo>
                    <a:pt x="983" y="69"/>
                  </a:lnTo>
                  <a:lnTo>
                    <a:pt x="983" y="30"/>
                  </a:lnTo>
                  <a:lnTo>
                    <a:pt x="973" y="15"/>
                  </a:lnTo>
                  <a:lnTo>
                    <a:pt x="961" y="2"/>
                  </a:lnTo>
                  <a:lnTo>
                    <a:pt x="943" y="0"/>
                  </a:lnTo>
                  <a:lnTo>
                    <a:pt x="91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73240" y="2682360"/>
              <a:ext cx="126360" cy="355680"/>
            </a:xfrm>
            <a:custGeom>
              <a:avLst/>
              <a:gdLst/>
              <a:ahLst/>
              <a:rect l="l" t="t" r="r" b="b"/>
              <a:pathLst>
                <a:path w="572" h="2043">
                  <a:moveTo>
                    <a:pt x="372" y="8"/>
                  </a:moveTo>
                  <a:lnTo>
                    <a:pt x="360" y="20"/>
                  </a:lnTo>
                  <a:lnTo>
                    <a:pt x="329" y="75"/>
                  </a:lnTo>
                  <a:lnTo>
                    <a:pt x="293" y="162"/>
                  </a:lnTo>
                  <a:lnTo>
                    <a:pt x="277" y="223"/>
                  </a:lnTo>
                  <a:lnTo>
                    <a:pt x="275" y="256"/>
                  </a:lnTo>
                  <a:lnTo>
                    <a:pt x="225" y="662"/>
                  </a:lnTo>
                  <a:lnTo>
                    <a:pt x="219" y="788"/>
                  </a:lnTo>
                  <a:lnTo>
                    <a:pt x="231" y="1001"/>
                  </a:lnTo>
                  <a:lnTo>
                    <a:pt x="307" y="1414"/>
                  </a:lnTo>
                  <a:lnTo>
                    <a:pt x="366" y="1636"/>
                  </a:lnTo>
                  <a:lnTo>
                    <a:pt x="372" y="1661"/>
                  </a:lnTo>
                  <a:lnTo>
                    <a:pt x="372" y="1679"/>
                  </a:lnTo>
                  <a:lnTo>
                    <a:pt x="366" y="1703"/>
                  </a:lnTo>
                  <a:lnTo>
                    <a:pt x="353" y="1735"/>
                  </a:lnTo>
                  <a:lnTo>
                    <a:pt x="311" y="1798"/>
                  </a:lnTo>
                  <a:lnTo>
                    <a:pt x="275" y="1826"/>
                  </a:lnTo>
                  <a:lnTo>
                    <a:pt x="186" y="1863"/>
                  </a:lnTo>
                  <a:lnTo>
                    <a:pt x="85" y="1893"/>
                  </a:lnTo>
                  <a:lnTo>
                    <a:pt x="37" y="1918"/>
                  </a:lnTo>
                  <a:lnTo>
                    <a:pt x="21" y="1930"/>
                  </a:lnTo>
                  <a:lnTo>
                    <a:pt x="3" y="1960"/>
                  </a:lnTo>
                  <a:lnTo>
                    <a:pt x="0" y="1976"/>
                  </a:lnTo>
                  <a:lnTo>
                    <a:pt x="0" y="1991"/>
                  </a:lnTo>
                  <a:lnTo>
                    <a:pt x="3" y="2003"/>
                  </a:lnTo>
                  <a:lnTo>
                    <a:pt x="9" y="2013"/>
                  </a:lnTo>
                  <a:lnTo>
                    <a:pt x="19" y="2021"/>
                  </a:lnTo>
                  <a:lnTo>
                    <a:pt x="33" y="2027"/>
                  </a:lnTo>
                  <a:lnTo>
                    <a:pt x="79" y="2040"/>
                  </a:lnTo>
                  <a:lnTo>
                    <a:pt x="110" y="2043"/>
                  </a:lnTo>
                  <a:lnTo>
                    <a:pt x="195" y="2040"/>
                  </a:lnTo>
                  <a:lnTo>
                    <a:pt x="219" y="2033"/>
                  </a:lnTo>
                  <a:lnTo>
                    <a:pt x="241" y="2021"/>
                  </a:lnTo>
                  <a:lnTo>
                    <a:pt x="259" y="2007"/>
                  </a:lnTo>
                  <a:lnTo>
                    <a:pt x="338" y="1906"/>
                  </a:lnTo>
                  <a:lnTo>
                    <a:pt x="360" y="1887"/>
                  </a:lnTo>
                  <a:lnTo>
                    <a:pt x="384" y="1872"/>
                  </a:lnTo>
                  <a:lnTo>
                    <a:pt x="499" y="1826"/>
                  </a:lnTo>
                  <a:lnTo>
                    <a:pt x="545" y="1802"/>
                  </a:lnTo>
                  <a:lnTo>
                    <a:pt x="560" y="1790"/>
                  </a:lnTo>
                  <a:lnTo>
                    <a:pt x="569" y="1778"/>
                  </a:lnTo>
                  <a:lnTo>
                    <a:pt x="572" y="1762"/>
                  </a:lnTo>
                  <a:lnTo>
                    <a:pt x="572" y="1750"/>
                  </a:lnTo>
                  <a:lnTo>
                    <a:pt x="569" y="1735"/>
                  </a:lnTo>
                  <a:lnTo>
                    <a:pt x="542" y="1679"/>
                  </a:lnTo>
                  <a:lnTo>
                    <a:pt x="527" y="1655"/>
                  </a:lnTo>
                  <a:lnTo>
                    <a:pt x="483" y="1612"/>
                  </a:lnTo>
                  <a:lnTo>
                    <a:pt x="469" y="1576"/>
                  </a:lnTo>
                  <a:lnTo>
                    <a:pt x="465" y="1551"/>
                  </a:lnTo>
                  <a:lnTo>
                    <a:pt x="469" y="1331"/>
                  </a:lnTo>
                  <a:lnTo>
                    <a:pt x="457" y="1261"/>
                  </a:lnTo>
                  <a:lnTo>
                    <a:pt x="435" y="1185"/>
                  </a:lnTo>
                  <a:lnTo>
                    <a:pt x="408" y="1025"/>
                  </a:lnTo>
                  <a:lnTo>
                    <a:pt x="411" y="946"/>
                  </a:lnTo>
                  <a:lnTo>
                    <a:pt x="499" y="421"/>
                  </a:lnTo>
                  <a:lnTo>
                    <a:pt x="497" y="204"/>
                  </a:lnTo>
                  <a:lnTo>
                    <a:pt x="487" y="146"/>
                  </a:lnTo>
                  <a:lnTo>
                    <a:pt x="447" y="48"/>
                  </a:lnTo>
                  <a:lnTo>
                    <a:pt x="420" y="14"/>
                  </a:lnTo>
                  <a:lnTo>
                    <a:pt x="408" y="6"/>
                  </a:lnTo>
                  <a:lnTo>
                    <a:pt x="396" y="0"/>
                  </a:lnTo>
                  <a:lnTo>
                    <a:pt x="384" y="0"/>
                  </a:lnTo>
                  <a:lnTo>
                    <a:pt x="37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81440" y="2683440"/>
              <a:ext cx="102600" cy="347400"/>
            </a:xfrm>
            <a:custGeom>
              <a:avLst/>
              <a:gdLst/>
              <a:ahLst/>
              <a:rect l="l" t="t" r="r" b="b"/>
              <a:pathLst>
                <a:path w="466" h="1995">
                  <a:moveTo>
                    <a:pt x="244" y="12"/>
                  </a:moveTo>
                  <a:lnTo>
                    <a:pt x="232" y="28"/>
                  </a:lnTo>
                  <a:lnTo>
                    <a:pt x="204" y="113"/>
                  </a:lnTo>
                  <a:lnTo>
                    <a:pt x="192" y="248"/>
                  </a:lnTo>
                  <a:lnTo>
                    <a:pt x="204" y="636"/>
                  </a:lnTo>
                  <a:lnTo>
                    <a:pt x="234" y="975"/>
                  </a:lnTo>
                  <a:lnTo>
                    <a:pt x="320" y="1421"/>
                  </a:lnTo>
                  <a:lnTo>
                    <a:pt x="335" y="1547"/>
                  </a:lnTo>
                  <a:lnTo>
                    <a:pt x="326" y="1608"/>
                  </a:lnTo>
                  <a:lnTo>
                    <a:pt x="317" y="1626"/>
                  </a:lnTo>
                  <a:lnTo>
                    <a:pt x="305" y="1644"/>
                  </a:lnTo>
                  <a:lnTo>
                    <a:pt x="256" y="1681"/>
                  </a:lnTo>
                  <a:lnTo>
                    <a:pt x="234" y="1693"/>
                  </a:lnTo>
                  <a:lnTo>
                    <a:pt x="195" y="1727"/>
                  </a:lnTo>
                  <a:lnTo>
                    <a:pt x="64" y="1815"/>
                  </a:lnTo>
                  <a:lnTo>
                    <a:pt x="28" y="1849"/>
                  </a:lnTo>
                  <a:lnTo>
                    <a:pt x="10" y="1879"/>
                  </a:lnTo>
                  <a:lnTo>
                    <a:pt x="0" y="1910"/>
                  </a:lnTo>
                  <a:lnTo>
                    <a:pt x="0" y="1938"/>
                  </a:lnTo>
                  <a:lnTo>
                    <a:pt x="6" y="1950"/>
                  </a:lnTo>
                  <a:lnTo>
                    <a:pt x="28" y="1968"/>
                  </a:lnTo>
                  <a:lnTo>
                    <a:pt x="50" y="1977"/>
                  </a:lnTo>
                  <a:lnTo>
                    <a:pt x="95" y="1989"/>
                  </a:lnTo>
                  <a:lnTo>
                    <a:pt x="147" y="1995"/>
                  </a:lnTo>
                  <a:lnTo>
                    <a:pt x="168" y="1995"/>
                  </a:lnTo>
                  <a:lnTo>
                    <a:pt x="186" y="1989"/>
                  </a:lnTo>
                  <a:lnTo>
                    <a:pt x="201" y="1980"/>
                  </a:lnTo>
                  <a:lnTo>
                    <a:pt x="210" y="1965"/>
                  </a:lnTo>
                  <a:lnTo>
                    <a:pt x="220" y="1946"/>
                  </a:lnTo>
                  <a:lnTo>
                    <a:pt x="240" y="1882"/>
                  </a:lnTo>
                  <a:lnTo>
                    <a:pt x="266" y="1849"/>
                  </a:lnTo>
                  <a:lnTo>
                    <a:pt x="280" y="1837"/>
                  </a:lnTo>
                  <a:lnTo>
                    <a:pt x="302" y="1824"/>
                  </a:lnTo>
                  <a:lnTo>
                    <a:pt x="402" y="1782"/>
                  </a:lnTo>
                  <a:lnTo>
                    <a:pt x="438" y="1748"/>
                  </a:lnTo>
                  <a:lnTo>
                    <a:pt x="450" y="1723"/>
                  </a:lnTo>
                  <a:lnTo>
                    <a:pt x="460" y="1671"/>
                  </a:lnTo>
                  <a:lnTo>
                    <a:pt x="460" y="1641"/>
                  </a:lnTo>
                  <a:lnTo>
                    <a:pt x="442" y="1531"/>
                  </a:lnTo>
                  <a:lnTo>
                    <a:pt x="448" y="1335"/>
                  </a:lnTo>
                  <a:lnTo>
                    <a:pt x="405" y="1091"/>
                  </a:lnTo>
                  <a:lnTo>
                    <a:pt x="402" y="834"/>
                  </a:lnTo>
                  <a:lnTo>
                    <a:pt x="466" y="361"/>
                  </a:lnTo>
                  <a:lnTo>
                    <a:pt x="462" y="205"/>
                  </a:lnTo>
                  <a:lnTo>
                    <a:pt x="448" y="128"/>
                  </a:lnTo>
                  <a:lnTo>
                    <a:pt x="436" y="107"/>
                  </a:lnTo>
                  <a:lnTo>
                    <a:pt x="420" y="86"/>
                  </a:lnTo>
                  <a:lnTo>
                    <a:pt x="399" y="65"/>
                  </a:lnTo>
                  <a:lnTo>
                    <a:pt x="351" y="28"/>
                  </a:lnTo>
                  <a:lnTo>
                    <a:pt x="323" y="12"/>
                  </a:lnTo>
                  <a:lnTo>
                    <a:pt x="299" y="4"/>
                  </a:lnTo>
                  <a:lnTo>
                    <a:pt x="278" y="0"/>
                  </a:lnTo>
                  <a:lnTo>
                    <a:pt x="260" y="4"/>
                  </a:lnTo>
                  <a:lnTo>
                    <a:pt x="24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5207040" y="2567160"/>
            <a:ext cx="32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ontacts, trains, &amp; assists Army units in the initial PKI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2030400"/>
            <a:ext cx="1435320" cy="9320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65240" y="2892600"/>
            <a:ext cx="321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oordinates with unit SSO regarding their responsib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43280" y="1614600"/>
            <a:ext cx="63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entralized POC for Army DoDIIS PKI Trusted Agent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25480" y="1627200"/>
            <a:ext cx="1066680" cy="333360"/>
          </a:xfrm>
          <a:prstGeom prst="rightArrow">
            <a:avLst>
              <a:gd name="adj1" fmla="val 50000"/>
              <a:gd name="adj2" fmla="val 7999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5400000">
            <a:off x="6485040" y="2116080"/>
            <a:ext cx="619200" cy="355680"/>
          </a:xfrm>
          <a:prstGeom prst="rightArrow">
            <a:avLst>
              <a:gd name="adj1" fmla="val 50000"/>
              <a:gd name="adj2" fmla="val 435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2946240" y="2389320"/>
            <a:ext cx="1067040" cy="333360"/>
          </a:xfrm>
          <a:prstGeom prst="rightArrow">
            <a:avLst>
              <a:gd name="adj1" fmla="val 50000"/>
              <a:gd name="adj2" fmla="val 800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541960" y="5216400"/>
            <a:ext cx="441000" cy="679680"/>
            <a:chOff x="2541960" y="5216400"/>
            <a:chExt cx="441000" cy="679680"/>
          </a:xfrm>
        </p:grpSpPr>
        <p:sp>
          <p:nvSpPr>
            <p:cNvPr id="597" name=""/>
            <p:cNvSpPr/>
            <p:nvPr/>
          </p:nvSpPr>
          <p:spPr>
            <a:xfrm flipH="1">
              <a:off x="2718720" y="5258520"/>
              <a:ext cx="255240" cy="129240"/>
            </a:xfrm>
            <a:custGeom>
              <a:avLst/>
              <a:gdLst/>
              <a:ahLst/>
              <a:rect l="l" t="t" r="r" b="b"/>
              <a:pathLst>
                <a:path w="1458" h="1168">
                  <a:moveTo>
                    <a:pt x="902" y="293"/>
                  </a:moveTo>
                  <a:lnTo>
                    <a:pt x="794" y="167"/>
                  </a:lnTo>
                  <a:lnTo>
                    <a:pt x="667" y="64"/>
                  </a:lnTo>
                  <a:lnTo>
                    <a:pt x="599" y="30"/>
                  </a:lnTo>
                  <a:lnTo>
                    <a:pt x="528" y="8"/>
                  </a:lnTo>
                  <a:lnTo>
                    <a:pt x="383" y="0"/>
                  </a:lnTo>
                  <a:lnTo>
                    <a:pt x="312" y="12"/>
                  </a:lnTo>
                  <a:lnTo>
                    <a:pt x="167" y="64"/>
                  </a:lnTo>
                  <a:lnTo>
                    <a:pt x="101" y="110"/>
                  </a:lnTo>
                  <a:lnTo>
                    <a:pt x="73" y="138"/>
                  </a:lnTo>
                  <a:lnTo>
                    <a:pt x="53" y="170"/>
                  </a:lnTo>
                  <a:lnTo>
                    <a:pt x="21" y="251"/>
                  </a:lnTo>
                  <a:lnTo>
                    <a:pt x="3" y="347"/>
                  </a:lnTo>
                  <a:lnTo>
                    <a:pt x="0" y="501"/>
                  </a:lnTo>
                  <a:lnTo>
                    <a:pt x="15" y="598"/>
                  </a:lnTo>
                  <a:lnTo>
                    <a:pt x="67" y="743"/>
                  </a:lnTo>
                  <a:lnTo>
                    <a:pt x="114" y="836"/>
                  </a:lnTo>
                  <a:lnTo>
                    <a:pt x="188" y="947"/>
                  </a:lnTo>
                  <a:lnTo>
                    <a:pt x="238" y="1003"/>
                  </a:lnTo>
                  <a:lnTo>
                    <a:pt x="325" y="1065"/>
                  </a:lnTo>
                  <a:lnTo>
                    <a:pt x="420" y="1115"/>
                  </a:lnTo>
                  <a:lnTo>
                    <a:pt x="534" y="1152"/>
                  </a:lnTo>
                  <a:lnTo>
                    <a:pt x="655" y="1168"/>
                  </a:lnTo>
                  <a:lnTo>
                    <a:pt x="766" y="1152"/>
                  </a:lnTo>
                  <a:lnTo>
                    <a:pt x="840" y="1128"/>
                  </a:lnTo>
                  <a:lnTo>
                    <a:pt x="874" y="1112"/>
                  </a:lnTo>
                  <a:lnTo>
                    <a:pt x="936" y="1068"/>
                  </a:lnTo>
                  <a:lnTo>
                    <a:pt x="961" y="1044"/>
                  </a:lnTo>
                  <a:lnTo>
                    <a:pt x="983" y="1013"/>
                  </a:lnTo>
                  <a:lnTo>
                    <a:pt x="1023" y="883"/>
                  </a:lnTo>
                  <a:lnTo>
                    <a:pt x="1044" y="795"/>
                  </a:lnTo>
                  <a:lnTo>
                    <a:pt x="1057" y="761"/>
                  </a:lnTo>
                  <a:lnTo>
                    <a:pt x="1072" y="737"/>
                  </a:lnTo>
                  <a:lnTo>
                    <a:pt x="1090" y="721"/>
                  </a:lnTo>
                  <a:lnTo>
                    <a:pt x="1109" y="715"/>
                  </a:lnTo>
                  <a:lnTo>
                    <a:pt x="1128" y="715"/>
                  </a:lnTo>
                  <a:lnTo>
                    <a:pt x="1192" y="728"/>
                  </a:lnTo>
                  <a:lnTo>
                    <a:pt x="1217" y="730"/>
                  </a:lnTo>
                  <a:lnTo>
                    <a:pt x="1381" y="702"/>
                  </a:lnTo>
                  <a:lnTo>
                    <a:pt x="1427" y="684"/>
                  </a:lnTo>
                  <a:lnTo>
                    <a:pt x="1442" y="672"/>
                  </a:lnTo>
                  <a:lnTo>
                    <a:pt x="1452" y="656"/>
                  </a:lnTo>
                  <a:lnTo>
                    <a:pt x="1458" y="612"/>
                  </a:lnTo>
                  <a:lnTo>
                    <a:pt x="1455" y="592"/>
                  </a:lnTo>
                  <a:lnTo>
                    <a:pt x="1442" y="544"/>
                  </a:lnTo>
                  <a:lnTo>
                    <a:pt x="1434" y="526"/>
                  </a:lnTo>
                  <a:lnTo>
                    <a:pt x="1415" y="504"/>
                  </a:lnTo>
                  <a:lnTo>
                    <a:pt x="1399" y="501"/>
                  </a:lnTo>
                  <a:lnTo>
                    <a:pt x="1369" y="501"/>
                  </a:lnTo>
                  <a:lnTo>
                    <a:pt x="1158" y="548"/>
                  </a:lnTo>
                  <a:lnTo>
                    <a:pt x="1118" y="550"/>
                  </a:lnTo>
                  <a:lnTo>
                    <a:pt x="1103" y="548"/>
                  </a:lnTo>
                  <a:lnTo>
                    <a:pt x="1090" y="548"/>
                  </a:lnTo>
                  <a:lnTo>
                    <a:pt x="1072" y="542"/>
                  </a:lnTo>
                  <a:lnTo>
                    <a:pt x="1063" y="536"/>
                  </a:lnTo>
                  <a:lnTo>
                    <a:pt x="1025" y="495"/>
                  </a:lnTo>
                  <a:lnTo>
                    <a:pt x="967" y="408"/>
                  </a:lnTo>
                  <a:lnTo>
                    <a:pt x="902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2629800" y="5396760"/>
              <a:ext cx="241920" cy="233640"/>
            </a:xfrm>
            <a:custGeom>
              <a:avLst/>
              <a:gdLst/>
              <a:ahLst/>
              <a:rect l="l" t="t" r="r" b="b"/>
              <a:pathLst>
                <a:path w="1378" h="2101">
                  <a:moveTo>
                    <a:pt x="837" y="173"/>
                  </a:moveTo>
                  <a:lnTo>
                    <a:pt x="794" y="146"/>
                  </a:lnTo>
                  <a:lnTo>
                    <a:pt x="627" y="65"/>
                  </a:lnTo>
                  <a:lnTo>
                    <a:pt x="482" y="16"/>
                  </a:lnTo>
                  <a:lnTo>
                    <a:pt x="355" y="0"/>
                  </a:lnTo>
                  <a:lnTo>
                    <a:pt x="244" y="6"/>
                  </a:lnTo>
                  <a:lnTo>
                    <a:pt x="195" y="16"/>
                  </a:lnTo>
                  <a:lnTo>
                    <a:pt x="145" y="34"/>
                  </a:lnTo>
                  <a:lnTo>
                    <a:pt x="104" y="56"/>
                  </a:lnTo>
                  <a:lnTo>
                    <a:pt x="40" y="118"/>
                  </a:lnTo>
                  <a:lnTo>
                    <a:pt x="15" y="159"/>
                  </a:lnTo>
                  <a:lnTo>
                    <a:pt x="0" y="233"/>
                  </a:lnTo>
                  <a:lnTo>
                    <a:pt x="6" y="372"/>
                  </a:lnTo>
                  <a:lnTo>
                    <a:pt x="25" y="444"/>
                  </a:lnTo>
                  <a:lnTo>
                    <a:pt x="58" y="506"/>
                  </a:lnTo>
                  <a:lnTo>
                    <a:pt x="114" y="560"/>
                  </a:lnTo>
                  <a:lnTo>
                    <a:pt x="213" y="642"/>
                  </a:lnTo>
                  <a:lnTo>
                    <a:pt x="263" y="697"/>
                  </a:lnTo>
                  <a:lnTo>
                    <a:pt x="327" y="815"/>
                  </a:lnTo>
                  <a:lnTo>
                    <a:pt x="343" y="877"/>
                  </a:lnTo>
                  <a:lnTo>
                    <a:pt x="346" y="939"/>
                  </a:lnTo>
                  <a:lnTo>
                    <a:pt x="340" y="970"/>
                  </a:lnTo>
                  <a:lnTo>
                    <a:pt x="309" y="1036"/>
                  </a:lnTo>
                  <a:lnTo>
                    <a:pt x="247" y="1138"/>
                  </a:lnTo>
                  <a:lnTo>
                    <a:pt x="229" y="1178"/>
                  </a:lnTo>
                  <a:lnTo>
                    <a:pt x="216" y="1218"/>
                  </a:lnTo>
                  <a:lnTo>
                    <a:pt x="176" y="1419"/>
                  </a:lnTo>
                  <a:lnTo>
                    <a:pt x="166" y="1528"/>
                  </a:lnTo>
                  <a:lnTo>
                    <a:pt x="179" y="1628"/>
                  </a:lnTo>
                  <a:lnTo>
                    <a:pt x="216" y="1720"/>
                  </a:lnTo>
                  <a:lnTo>
                    <a:pt x="269" y="1813"/>
                  </a:lnTo>
                  <a:lnTo>
                    <a:pt x="370" y="1931"/>
                  </a:lnTo>
                  <a:lnTo>
                    <a:pt x="410" y="1962"/>
                  </a:lnTo>
                  <a:lnTo>
                    <a:pt x="549" y="2043"/>
                  </a:lnTo>
                  <a:lnTo>
                    <a:pt x="655" y="2079"/>
                  </a:lnTo>
                  <a:lnTo>
                    <a:pt x="708" y="2092"/>
                  </a:lnTo>
                  <a:lnTo>
                    <a:pt x="809" y="2101"/>
                  </a:lnTo>
                  <a:lnTo>
                    <a:pt x="911" y="2089"/>
                  </a:lnTo>
                  <a:lnTo>
                    <a:pt x="1016" y="2055"/>
                  </a:lnTo>
                  <a:lnTo>
                    <a:pt x="1115" y="2009"/>
                  </a:lnTo>
                  <a:lnTo>
                    <a:pt x="1199" y="1943"/>
                  </a:lnTo>
                  <a:lnTo>
                    <a:pt x="1233" y="1906"/>
                  </a:lnTo>
                  <a:lnTo>
                    <a:pt x="1291" y="1816"/>
                  </a:lnTo>
                  <a:lnTo>
                    <a:pt x="1338" y="1714"/>
                  </a:lnTo>
                  <a:lnTo>
                    <a:pt x="1354" y="1658"/>
                  </a:lnTo>
                  <a:lnTo>
                    <a:pt x="1374" y="1543"/>
                  </a:lnTo>
                  <a:lnTo>
                    <a:pt x="1378" y="1413"/>
                  </a:lnTo>
                  <a:lnTo>
                    <a:pt x="1360" y="1196"/>
                  </a:lnTo>
                  <a:lnTo>
                    <a:pt x="1285" y="877"/>
                  </a:lnTo>
                  <a:lnTo>
                    <a:pt x="1195" y="666"/>
                  </a:lnTo>
                  <a:lnTo>
                    <a:pt x="1020" y="369"/>
                  </a:lnTo>
                  <a:lnTo>
                    <a:pt x="911" y="239"/>
                  </a:lnTo>
                  <a:lnTo>
                    <a:pt x="83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2541600" y="5216400"/>
              <a:ext cx="363240" cy="220320"/>
            </a:xfrm>
            <a:custGeom>
              <a:avLst/>
              <a:gdLst/>
              <a:ahLst/>
              <a:rect l="l" t="t" r="r" b="b"/>
              <a:pathLst>
                <a:path w="2070" h="1986">
                  <a:moveTo>
                    <a:pt x="310" y="148"/>
                  </a:moveTo>
                  <a:lnTo>
                    <a:pt x="358" y="168"/>
                  </a:lnTo>
                  <a:lnTo>
                    <a:pt x="371" y="176"/>
                  </a:lnTo>
                  <a:lnTo>
                    <a:pt x="374" y="183"/>
                  </a:lnTo>
                  <a:lnTo>
                    <a:pt x="371" y="189"/>
                  </a:lnTo>
                  <a:lnTo>
                    <a:pt x="365" y="204"/>
                  </a:lnTo>
                  <a:lnTo>
                    <a:pt x="330" y="242"/>
                  </a:lnTo>
                  <a:lnTo>
                    <a:pt x="310" y="260"/>
                  </a:lnTo>
                  <a:lnTo>
                    <a:pt x="282" y="301"/>
                  </a:lnTo>
                  <a:lnTo>
                    <a:pt x="278" y="317"/>
                  </a:lnTo>
                  <a:lnTo>
                    <a:pt x="294" y="351"/>
                  </a:lnTo>
                  <a:lnTo>
                    <a:pt x="324" y="387"/>
                  </a:lnTo>
                  <a:lnTo>
                    <a:pt x="346" y="403"/>
                  </a:lnTo>
                  <a:lnTo>
                    <a:pt x="387" y="425"/>
                  </a:lnTo>
                  <a:lnTo>
                    <a:pt x="408" y="427"/>
                  </a:lnTo>
                  <a:lnTo>
                    <a:pt x="457" y="419"/>
                  </a:lnTo>
                  <a:lnTo>
                    <a:pt x="541" y="379"/>
                  </a:lnTo>
                  <a:lnTo>
                    <a:pt x="588" y="341"/>
                  </a:lnTo>
                  <a:lnTo>
                    <a:pt x="602" y="325"/>
                  </a:lnTo>
                  <a:lnTo>
                    <a:pt x="612" y="307"/>
                  </a:lnTo>
                  <a:lnTo>
                    <a:pt x="612" y="282"/>
                  </a:lnTo>
                  <a:lnTo>
                    <a:pt x="594" y="204"/>
                  </a:lnTo>
                  <a:lnTo>
                    <a:pt x="594" y="183"/>
                  </a:lnTo>
                  <a:lnTo>
                    <a:pt x="602" y="168"/>
                  </a:lnTo>
                  <a:lnTo>
                    <a:pt x="608" y="161"/>
                  </a:lnTo>
                  <a:lnTo>
                    <a:pt x="652" y="155"/>
                  </a:lnTo>
                  <a:lnTo>
                    <a:pt x="785" y="164"/>
                  </a:lnTo>
                  <a:lnTo>
                    <a:pt x="894" y="192"/>
                  </a:lnTo>
                  <a:lnTo>
                    <a:pt x="1010" y="242"/>
                  </a:lnTo>
                  <a:lnTo>
                    <a:pt x="1143" y="323"/>
                  </a:lnTo>
                  <a:lnTo>
                    <a:pt x="1437" y="549"/>
                  </a:lnTo>
                  <a:lnTo>
                    <a:pt x="1606" y="712"/>
                  </a:lnTo>
                  <a:lnTo>
                    <a:pt x="1731" y="883"/>
                  </a:lnTo>
                  <a:lnTo>
                    <a:pt x="1786" y="991"/>
                  </a:lnTo>
                  <a:lnTo>
                    <a:pt x="1817" y="1079"/>
                  </a:lnTo>
                  <a:lnTo>
                    <a:pt x="1826" y="1137"/>
                  </a:lnTo>
                  <a:lnTo>
                    <a:pt x="1811" y="1174"/>
                  </a:lnTo>
                  <a:lnTo>
                    <a:pt x="1795" y="1194"/>
                  </a:lnTo>
                  <a:lnTo>
                    <a:pt x="1671" y="1284"/>
                  </a:lnTo>
                  <a:lnTo>
                    <a:pt x="1310" y="1507"/>
                  </a:lnTo>
                  <a:lnTo>
                    <a:pt x="1067" y="1627"/>
                  </a:lnTo>
                  <a:lnTo>
                    <a:pt x="1001" y="1649"/>
                  </a:lnTo>
                  <a:lnTo>
                    <a:pt x="881" y="1671"/>
                  </a:lnTo>
                  <a:lnTo>
                    <a:pt x="775" y="1673"/>
                  </a:lnTo>
                  <a:lnTo>
                    <a:pt x="692" y="1686"/>
                  </a:lnTo>
                  <a:lnTo>
                    <a:pt x="658" y="1701"/>
                  </a:lnTo>
                  <a:lnTo>
                    <a:pt x="630" y="1723"/>
                  </a:lnTo>
                  <a:lnTo>
                    <a:pt x="594" y="1779"/>
                  </a:lnTo>
                  <a:lnTo>
                    <a:pt x="584" y="1814"/>
                  </a:lnTo>
                  <a:lnTo>
                    <a:pt x="582" y="1872"/>
                  </a:lnTo>
                  <a:lnTo>
                    <a:pt x="588" y="1896"/>
                  </a:lnTo>
                  <a:lnTo>
                    <a:pt x="602" y="1916"/>
                  </a:lnTo>
                  <a:lnTo>
                    <a:pt x="652" y="1946"/>
                  </a:lnTo>
                  <a:lnTo>
                    <a:pt x="729" y="1974"/>
                  </a:lnTo>
                  <a:lnTo>
                    <a:pt x="773" y="1984"/>
                  </a:lnTo>
                  <a:lnTo>
                    <a:pt x="868" y="1986"/>
                  </a:lnTo>
                  <a:lnTo>
                    <a:pt x="918" y="1980"/>
                  </a:lnTo>
                  <a:lnTo>
                    <a:pt x="1023" y="1946"/>
                  </a:lnTo>
                  <a:lnTo>
                    <a:pt x="1202" y="1854"/>
                  </a:lnTo>
                  <a:lnTo>
                    <a:pt x="1733" y="1503"/>
                  </a:lnTo>
                  <a:lnTo>
                    <a:pt x="2031" y="1250"/>
                  </a:lnTo>
                  <a:lnTo>
                    <a:pt x="2051" y="1224"/>
                  </a:lnTo>
                  <a:lnTo>
                    <a:pt x="2063" y="1196"/>
                  </a:lnTo>
                  <a:lnTo>
                    <a:pt x="2070" y="1162"/>
                  </a:lnTo>
                  <a:lnTo>
                    <a:pt x="2067" y="1125"/>
                  </a:lnTo>
                  <a:lnTo>
                    <a:pt x="2057" y="1079"/>
                  </a:lnTo>
                  <a:lnTo>
                    <a:pt x="1981" y="917"/>
                  </a:lnTo>
                  <a:lnTo>
                    <a:pt x="1808" y="688"/>
                  </a:lnTo>
                  <a:lnTo>
                    <a:pt x="1697" y="580"/>
                  </a:lnTo>
                  <a:lnTo>
                    <a:pt x="1359" y="319"/>
                  </a:lnTo>
                  <a:lnTo>
                    <a:pt x="1240" y="242"/>
                  </a:lnTo>
                  <a:lnTo>
                    <a:pt x="1060" y="155"/>
                  </a:lnTo>
                  <a:lnTo>
                    <a:pt x="674" y="22"/>
                  </a:lnTo>
                  <a:lnTo>
                    <a:pt x="519" y="0"/>
                  </a:lnTo>
                  <a:lnTo>
                    <a:pt x="263" y="22"/>
                  </a:lnTo>
                  <a:lnTo>
                    <a:pt x="167" y="44"/>
                  </a:lnTo>
                  <a:lnTo>
                    <a:pt x="103" y="68"/>
                  </a:lnTo>
                  <a:lnTo>
                    <a:pt x="71" y="86"/>
                  </a:lnTo>
                  <a:lnTo>
                    <a:pt x="47" y="112"/>
                  </a:lnTo>
                  <a:lnTo>
                    <a:pt x="25" y="142"/>
                  </a:lnTo>
                  <a:lnTo>
                    <a:pt x="4" y="211"/>
                  </a:lnTo>
                  <a:lnTo>
                    <a:pt x="0" y="242"/>
                  </a:lnTo>
                  <a:lnTo>
                    <a:pt x="4" y="267"/>
                  </a:lnTo>
                  <a:lnTo>
                    <a:pt x="16" y="295"/>
                  </a:lnTo>
                  <a:lnTo>
                    <a:pt x="31" y="313"/>
                  </a:lnTo>
                  <a:lnTo>
                    <a:pt x="47" y="325"/>
                  </a:lnTo>
                  <a:lnTo>
                    <a:pt x="65" y="329"/>
                  </a:lnTo>
                  <a:lnTo>
                    <a:pt x="90" y="325"/>
                  </a:lnTo>
                  <a:lnTo>
                    <a:pt x="111" y="317"/>
                  </a:lnTo>
                  <a:lnTo>
                    <a:pt x="131" y="297"/>
                  </a:lnTo>
                  <a:lnTo>
                    <a:pt x="137" y="282"/>
                  </a:lnTo>
                  <a:lnTo>
                    <a:pt x="139" y="263"/>
                  </a:lnTo>
                  <a:lnTo>
                    <a:pt x="139" y="239"/>
                  </a:lnTo>
                  <a:lnTo>
                    <a:pt x="143" y="214"/>
                  </a:lnTo>
                  <a:lnTo>
                    <a:pt x="143" y="189"/>
                  </a:lnTo>
                  <a:lnTo>
                    <a:pt x="155" y="152"/>
                  </a:lnTo>
                  <a:lnTo>
                    <a:pt x="167" y="140"/>
                  </a:lnTo>
                  <a:lnTo>
                    <a:pt x="185" y="134"/>
                  </a:lnTo>
                  <a:lnTo>
                    <a:pt x="278" y="140"/>
                  </a:lnTo>
                  <a:lnTo>
                    <a:pt x="31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803680" y="5408280"/>
              <a:ext cx="178920" cy="203760"/>
            </a:xfrm>
            <a:custGeom>
              <a:avLst/>
              <a:gdLst/>
              <a:ahLst/>
              <a:rect l="l" t="t" r="r" b="b"/>
              <a:pathLst>
                <a:path w="1023" h="1835">
                  <a:moveTo>
                    <a:pt x="803" y="0"/>
                  </a:moveTo>
                  <a:lnTo>
                    <a:pt x="779" y="0"/>
                  </a:lnTo>
                  <a:lnTo>
                    <a:pt x="751" y="10"/>
                  </a:lnTo>
                  <a:lnTo>
                    <a:pt x="717" y="28"/>
                  </a:lnTo>
                  <a:lnTo>
                    <a:pt x="270" y="416"/>
                  </a:lnTo>
                  <a:lnTo>
                    <a:pt x="127" y="561"/>
                  </a:lnTo>
                  <a:lnTo>
                    <a:pt x="93" y="605"/>
                  </a:lnTo>
                  <a:lnTo>
                    <a:pt x="28" y="719"/>
                  </a:lnTo>
                  <a:lnTo>
                    <a:pt x="6" y="787"/>
                  </a:lnTo>
                  <a:lnTo>
                    <a:pt x="0" y="884"/>
                  </a:lnTo>
                  <a:lnTo>
                    <a:pt x="6" y="940"/>
                  </a:lnTo>
                  <a:lnTo>
                    <a:pt x="13" y="964"/>
                  </a:lnTo>
                  <a:lnTo>
                    <a:pt x="53" y="1038"/>
                  </a:lnTo>
                  <a:lnTo>
                    <a:pt x="75" y="1064"/>
                  </a:lnTo>
                  <a:lnTo>
                    <a:pt x="137" y="1116"/>
                  </a:lnTo>
                  <a:lnTo>
                    <a:pt x="427" y="1287"/>
                  </a:lnTo>
                  <a:lnTo>
                    <a:pt x="556" y="1370"/>
                  </a:lnTo>
                  <a:lnTo>
                    <a:pt x="622" y="1423"/>
                  </a:lnTo>
                  <a:lnTo>
                    <a:pt x="634" y="1435"/>
                  </a:lnTo>
                  <a:lnTo>
                    <a:pt x="640" y="1451"/>
                  </a:lnTo>
                  <a:lnTo>
                    <a:pt x="640" y="1463"/>
                  </a:lnTo>
                  <a:lnTo>
                    <a:pt x="637" y="1479"/>
                  </a:lnTo>
                  <a:lnTo>
                    <a:pt x="624" y="1491"/>
                  </a:lnTo>
                  <a:lnTo>
                    <a:pt x="609" y="1504"/>
                  </a:lnTo>
                  <a:lnTo>
                    <a:pt x="576" y="1522"/>
                  </a:lnTo>
                  <a:lnTo>
                    <a:pt x="538" y="1534"/>
                  </a:lnTo>
                  <a:lnTo>
                    <a:pt x="520" y="1538"/>
                  </a:lnTo>
                  <a:lnTo>
                    <a:pt x="433" y="1516"/>
                  </a:lnTo>
                  <a:lnTo>
                    <a:pt x="411" y="1513"/>
                  </a:lnTo>
                  <a:lnTo>
                    <a:pt x="396" y="1513"/>
                  </a:lnTo>
                  <a:lnTo>
                    <a:pt x="381" y="1516"/>
                  </a:lnTo>
                  <a:lnTo>
                    <a:pt x="371" y="1526"/>
                  </a:lnTo>
                  <a:lnTo>
                    <a:pt x="353" y="1560"/>
                  </a:lnTo>
                  <a:lnTo>
                    <a:pt x="346" y="1600"/>
                  </a:lnTo>
                  <a:lnTo>
                    <a:pt x="346" y="1634"/>
                  </a:lnTo>
                  <a:lnTo>
                    <a:pt x="353" y="1646"/>
                  </a:lnTo>
                  <a:lnTo>
                    <a:pt x="362" y="1652"/>
                  </a:lnTo>
                  <a:lnTo>
                    <a:pt x="375" y="1656"/>
                  </a:lnTo>
                  <a:lnTo>
                    <a:pt x="393" y="1658"/>
                  </a:lnTo>
                  <a:lnTo>
                    <a:pt x="455" y="1652"/>
                  </a:lnTo>
                  <a:lnTo>
                    <a:pt x="572" y="1628"/>
                  </a:lnTo>
                  <a:lnTo>
                    <a:pt x="590" y="1622"/>
                  </a:lnTo>
                  <a:lnTo>
                    <a:pt x="622" y="1614"/>
                  </a:lnTo>
                  <a:lnTo>
                    <a:pt x="630" y="1618"/>
                  </a:lnTo>
                  <a:lnTo>
                    <a:pt x="637" y="1624"/>
                  </a:lnTo>
                  <a:lnTo>
                    <a:pt x="637" y="1634"/>
                  </a:lnTo>
                  <a:lnTo>
                    <a:pt x="634" y="1656"/>
                  </a:lnTo>
                  <a:lnTo>
                    <a:pt x="622" y="1683"/>
                  </a:lnTo>
                  <a:lnTo>
                    <a:pt x="602" y="1702"/>
                  </a:lnTo>
                  <a:lnTo>
                    <a:pt x="590" y="1708"/>
                  </a:lnTo>
                  <a:lnTo>
                    <a:pt x="548" y="1714"/>
                  </a:lnTo>
                  <a:lnTo>
                    <a:pt x="522" y="1714"/>
                  </a:lnTo>
                  <a:lnTo>
                    <a:pt x="479" y="1720"/>
                  </a:lnTo>
                  <a:lnTo>
                    <a:pt x="463" y="1724"/>
                  </a:lnTo>
                  <a:lnTo>
                    <a:pt x="455" y="1730"/>
                  </a:lnTo>
                  <a:lnTo>
                    <a:pt x="451" y="1739"/>
                  </a:lnTo>
                  <a:lnTo>
                    <a:pt x="455" y="1755"/>
                  </a:lnTo>
                  <a:lnTo>
                    <a:pt x="461" y="1770"/>
                  </a:lnTo>
                  <a:lnTo>
                    <a:pt x="470" y="1785"/>
                  </a:lnTo>
                  <a:lnTo>
                    <a:pt x="495" y="1817"/>
                  </a:lnTo>
                  <a:lnTo>
                    <a:pt x="507" y="1826"/>
                  </a:lnTo>
                  <a:lnTo>
                    <a:pt x="520" y="1832"/>
                  </a:lnTo>
                  <a:lnTo>
                    <a:pt x="532" y="1835"/>
                  </a:lnTo>
                  <a:lnTo>
                    <a:pt x="548" y="1832"/>
                  </a:lnTo>
                  <a:lnTo>
                    <a:pt x="578" y="1823"/>
                  </a:lnTo>
                  <a:lnTo>
                    <a:pt x="609" y="1807"/>
                  </a:lnTo>
                  <a:lnTo>
                    <a:pt x="640" y="1785"/>
                  </a:lnTo>
                  <a:lnTo>
                    <a:pt x="702" y="1730"/>
                  </a:lnTo>
                  <a:lnTo>
                    <a:pt x="751" y="1664"/>
                  </a:lnTo>
                  <a:lnTo>
                    <a:pt x="757" y="1649"/>
                  </a:lnTo>
                  <a:lnTo>
                    <a:pt x="761" y="1630"/>
                  </a:lnTo>
                  <a:lnTo>
                    <a:pt x="767" y="1566"/>
                  </a:lnTo>
                  <a:lnTo>
                    <a:pt x="779" y="1544"/>
                  </a:lnTo>
                  <a:lnTo>
                    <a:pt x="803" y="1532"/>
                  </a:lnTo>
                  <a:lnTo>
                    <a:pt x="874" y="1526"/>
                  </a:lnTo>
                  <a:lnTo>
                    <a:pt x="1005" y="1528"/>
                  </a:lnTo>
                  <a:lnTo>
                    <a:pt x="1014" y="1522"/>
                  </a:lnTo>
                  <a:lnTo>
                    <a:pt x="1020" y="1516"/>
                  </a:lnTo>
                  <a:lnTo>
                    <a:pt x="1023" y="1504"/>
                  </a:lnTo>
                  <a:lnTo>
                    <a:pt x="1023" y="1460"/>
                  </a:lnTo>
                  <a:lnTo>
                    <a:pt x="1020" y="1438"/>
                  </a:lnTo>
                  <a:lnTo>
                    <a:pt x="1014" y="1413"/>
                  </a:lnTo>
                  <a:lnTo>
                    <a:pt x="1005" y="1392"/>
                  </a:lnTo>
                  <a:lnTo>
                    <a:pt x="995" y="1377"/>
                  </a:lnTo>
                  <a:lnTo>
                    <a:pt x="983" y="1367"/>
                  </a:lnTo>
                  <a:lnTo>
                    <a:pt x="968" y="1367"/>
                  </a:lnTo>
                  <a:lnTo>
                    <a:pt x="949" y="1373"/>
                  </a:lnTo>
                  <a:lnTo>
                    <a:pt x="881" y="1413"/>
                  </a:lnTo>
                  <a:lnTo>
                    <a:pt x="835" y="1432"/>
                  </a:lnTo>
                  <a:lnTo>
                    <a:pt x="816" y="1432"/>
                  </a:lnTo>
                  <a:lnTo>
                    <a:pt x="801" y="1426"/>
                  </a:lnTo>
                  <a:lnTo>
                    <a:pt x="785" y="1413"/>
                  </a:lnTo>
                  <a:lnTo>
                    <a:pt x="773" y="1401"/>
                  </a:lnTo>
                  <a:lnTo>
                    <a:pt x="695" y="1303"/>
                  </a:lnTo>
                  <a:lnTo>
                    <a:pt x="463" y="1113"/>
                  </a:lnTo>
                  <a:lnTo>
                    <a:pt x="368" y="1050"/>
                  </a:lnTo>
                  <a:lnTo>
                    <a:pt x="334" y="1032"/>
                  </a:lnTo>
                  <a:lnTo>
                    <a:pt x="260" y="968"/>
                  </a:lnTo>
                  <a:lnTo>
                    <a:pt x="232" y="924"/>
                  </a:lnTo>
                  <a:lnTo>
                    <a:pt x="217" y="880"/>
                  </a:lnTo>
                  <a:lnTo>
                    <a:pt x="214" y="837"/>
                  </a:lnTo>
                  <a:lnTo>
                    <a:pt x="223" y="791"/>
                  </a:lnTo>
                  <a:lnTo>
                    <a:pt x="232" y="765"/>
                  </a:lnTo>
                  <a:lnTo>
                    <a:pt x="276" y="695"/>
                  </a:lnTo>
                  <a:lnTo>
                    <a:pt x="318" y="645"/>
                  </a:lnTo>
                  <a:lnTo>
                    <a:pt x="403" y="568"/>
                  </a:lnTo>
                  <a:lnTo>
                    <a:pt x="609" y="428"/>
                  </a:lnTo>
                  <a:lnTo>
                    <a:pt x="902" y="267"/>
                  </a:lnTo>
                  <a:lnTo>
                    <a:pt x="918" y="251"/>
                  </a:lnTo>
                  <a:lnTo>
                    <a:pt x="930" y="236"/>
                  </a:lnTo>
                  <a:lnTo>
                    <a:pt x="934" y="223"/>
                  </a:lnTo>
                  <a:lnTo>
                    <a:pt x="936" y="208"/>
                  </a:lnTo>
                  <a:lnTo>
                    <a:pt x="934" y="195"/>
                  </a:lnTo>
                  <a:lnTo>
                    <a:pt x="890" y="121"/>
                  </a:lnTo>
                  <a:lnTo>
                    <a:pt x="881" y="99"/>
                  </a:lnTo>
                  <a:lnTo>
                    <a:pt x="856" y="50"/>
                  </a:lnTo>
                  <a:lnTo>
                    <a:pt x="841" y="28"/>
                  </a:lnTo>
                  <a:lnTo>
                    <a:pt x="825" y="10"/>
                  </a:lnTo>
                  <a:lnTo>
                    <a:pt x="8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543760" y="5581080"/>
              <a:ext cx="169920" cy="258120"/>
            </a:xfrm>
            <a:custGeom>
              <a:avLst/>
              <a:gdLst/>
              <a:ahLst/>
              <a:rect l="l" t="t" r="r" b="b"/>
              <a:pathLst>
                <a:path w="970" h="2324">
                  <a:moveTo>
                    <a:pt x="304" y="96"/>
                  </a:moveTo>
                  <a:lnTo>
                    <a:pt x="260" y="34"/>
                  </a:lnTo>
                  <a:lnTo>
                    <a:pt x="236" y="16"/>
                  </a:lnTo>
                  <a:lnTo>
                    <a:pt x="208" y="6"/>
                  </a:lnTo>
                  <a:lnTo>
                    <a:pt x="177" y="0"/>
                  </a:lnTo>
                  <a:lnTo>
                    <a:pt x="147" y="0"/>
                  </a:lnTo>
                  <a:lnTo>
                    <a:pt x="115" y="6"/>
                  </a:lnTo>
                  <a:lnTo>
                    <a:pt x="87" y="16"/>
                  </a:lnTo>
                  <a:lnTo>
                    <a:pt x="63" y="28"/>
                  </a:lnTo>
                  <a:lnTo>
                    <a:pt x="47" y="44"/>
                  </a:lnTo>
                  <a:lnTo>
                    <a:pt x="34" y="62"/>
                  </a:lnTo>
                  <a:lnTo>
                    <a:pt x="26" y="86"/>
                  </a:lnTo>
                  <a:lnTo>
                    <a:pt x="16" y="146"/>
                  </a:lnTo>
                  <a:lnTo>
                    <a:pt x="20" y="295"/>
                  </a:lnTo>
                  <a:lnTo>
                    <a:pt x="41" y="387"/>
                  </a:lnTo>
                  <a:lnTo>
                    <a:pt x="229" y="955"/>
                  </a:lnTo>
                  <a:lnTo>
                    <a:pt x="242" y="1029"/>
                  </a:lnTo>
                  <a:lnTo>
                    <a:pt x="242" y="1097"/>
                  </a:lnTo>
                  <a:lnTo>
                    <a:pt x="161" y="1401"/>
                  </a:lnTo>
                  <a:lnTo>
                    <a:pt x="125" y="1569"/>
                  </a:lnTo>
                  <a:lnTo>
                    <a:pt x="115" y="1788"/>
                  </a:lnTo>
                  <a:lnTo>
                    <a:pt x="103" y="1866"/>
                  </a:lnTo>
                  <a:lnTo>
                    <a:pt x="93" y="1897"/>
                  </a:lnTo>
                  <a:lnTo>
                    <a:pt x="78" y="1928"/>
                  </a:lnTo>
                  <a:lnTo>
                    <a:pt x="44" y="1984"/>
                  </a:lnTo>
                  <a:lnTo>
                    <a:pt x="28" y="2005"/>
                  </a:lnTo>
                  <a:lnTo>
                    <a:pt x="4" y="2051"/>
                  </a:lnTo>
                  <a:lnTo>
                    <a:pt x="0" y="2071"/>
                  </a:lnTo>
                  <a:lnTo>
                    <a:pt x="8" y="2111"/>
                  </a:lnTo>
                  <a:lnTo>
                    <a:pt x="16" y="2129"/>
                  </a:lnTo>
                  <a:lnTo>
                    <a:pt x="28" y="2145"/>
                  </a:lnTo>
                  <a:lnTo>
                    <a:pt x="60" y="2173"/>
                  </a:lnTo>
                  <a:lnTo>
                    <a:pt x="81" y="2185"/>
                  </a:lnTo>
                  <a:lnTo>
                    <a:pt x="103" y="2191"/>
                  </a:lnTo>
                  <a:lnTo>
                    <a:pt x="131" y="2195"/>
                  </a:lnTo>
                  <a:lnTo>
                    <a:pt x="320" y="2161"/>
                  </a:lnTo>
                  <a:lnTo>
                    <a:pt x="399" y="2163"/>
                  </a:lnTo>
                  <a:lnTo>
                    <a:pt x="437" y="2175"/>
                  </a:lnTo>
                  <a:lnTo>
                    <a:pt x="477" y="2195"/>
                  </a:lnTo>
                  <a:lnTo>
                    <a:pt x="628" y="2294"/>
                  </a:lnTo>
                  <a:lnTo>
                    <a:pt x="662" y="2312"/>
                  </a:lnTo>
                  <a:lnTo>
                    <a:pt x="696" y="2322"/>
                  </a:lnTo>
                  <a:lnTo>
                    <a:pt x="730" y="2324"/>
                  </a:lnTo>
                  <a:lnTo>
                    <a:pt x="761" y="2322"/>
                  </a:lnTo>
                  <a:lnTo>
                    <a:pt x="823" y="2303"/>
                  </a:lnTo>
                  <a:lnTo>
                    <a:pt x="900" y="2263"/>
                  </a:lnTo>
                  <a:lnTo>
                    <a:pt x="918" y="2247"/>
                  </a:lnTo>
                  <a:lnTo>
                    <a:pt x="950" y="2213"/>
                  </a:lnTo>
                  <a:lnTo>
                    <a:pt x="962" y="2195"/>
                  </a:lnTo>
                  <a:lnTo>
                    <a:pt x="968" y="2175"/>
                  </a:lnTo>
                  <a:lnTo>
                    <a:pt x="970" y="2157"/>
                  </a:lnTo>
                  <a:lnTo>
                    <a:pt x="970" y="2139"/>
                  </a:lnTo>
                  <a:lnTo>
                    <a:pt x="962" y="2123"/>
                  </a:lnTo>
                  <a:lnTo>
                    <a:pt x="946" y="2107"/>
                  </a:lnTo>
                  <a:lnTo>
                    <a:pt x="922" y="2095"/>
                  </a:lnTo>
                  <a:lnTo>
                    <a:pt x="795" y="2067"/>
                  </a:lnTo>
                  <a:lnTo>
                    <a:pt x="526" y="2033"/>
                  </a:lnTo>
                  <a:lnTo>
                    <a:pt x="449" y="2030"/>
                  </a:lnTo>
                  <a:lnTo>
                    <a:pt x="350" y="2015"/>
                  </a:lnTo>
                  <a:lnTo>
                    <a:pt x="304" y="1996"/>
                  </a:lnTo>
                  <a:lnTo>
                    <a:pt x="286" y="1987"/>
                  </a:lnTo>
                  <a:lnTo>
                    <a:pt x="270" y="1974"/>
                  </a:lnTo>
                  <a:lnTo>
                    <a:pt x="260" y="1962"/>
                  </a:lnTo>
                  <a:lnTo>
                    <a:pt x="251" y="1946"/>
                  </a:lnTo>
                  <a:lnTo>
                    <a:pt x="245" y="1928"/>
                  </a:lnTo>
                  <a:lnTo>
                    <a:pt x="242" y="1906"/>
                  </a:lnTo>
                  <a:lnTo>
                    <a:pt x="245" y="1840"/>
                  </a:lnTo>
                  <a:lnTo>
                    <a:pt x="298" y="1652"/>
                  </a:lnTo>
                  <a:lnTo>
                    <a:pt x="459" y="949"/>
                  </a:lnTo>
                  <a:lnTo>
                    <a:pt x="465" y="750"/>
                  </a:lnTo>
                  <a:lnTo>
                    <a:pt x="453" y="630"/>
                  </a:lnTo>
                  <a:lnTo>
                    <a:pt x="381" y="297"/>
                  </a:lnTo>
                  <a:lnTo>
                    <a:pt x="30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739240" y="5577840"/>
              <a:ext cx="145440" cy="318240"/>
            </a:xfrm>
            <a:custGeom>
              <a:avLst/>
              <a:gdLst/>
              <a:ahLst/>
              <a:rect l="l" t="t" r="r" b="b"/>
              <a:pathLst>
                <a:path w="831" h="2864">
                  <a:moveTo>
                    <a:pt x="117" y="2414"/>
                  </a:moveTo>
                  <a:lnTo>
                    <a:pt x="102" y="2434"/>
                  </a:lnTo>
                  <a:lnTo>
                    <a:pt x="24" y="2498"/>
                  </a:lnTo>
                  <a:lnTo>
                    <a:pt x="12" y="2510"/>
                  </a:lnTo>
                  <a:lnTo>
                    <a:pt x="6" y="2526"/>
                  </a:lnTo>
                  <a:lnTo>
                    <a:pt x="0" y="2560"/>
                  </a:lnTo>
                  <a:lnTo>
                    <a:pt x="2" y="2594"/>
                  </a:lnTo>
                  <a:lnTo>
                    <a:pt x="6" y="2613"/>
                  </a:lnTo>
                  <a:lnTo>
                    <a:pt x="28" y="2644"/>
                  </a:lnTo>
                  <a:lnTo>
                    <a:pt x="42" y="2657"/>
                  </a:lnTo>
                  <a:lnTo>
                    <a:pt x="92" y="2675"/>
                  </a:lnTo>
                  <a:lnTo>
                    <a:pt x="235" y="2693"/>
                  </a:lnTo>
                  <a:lnTo>
                    <a:pt x="302" y="2713"/>
                  </a:lnTo>
                  <a:lnTo>
                    <a:pt x="334" y="2727"/>
                  </a:lnTo>
                  <a:lnTo>
                    <a:pt x="454" y="2817"/>
                  </a:lnTo>
                  <a:lnTo>
                    <a:pt x="515" y="2851"/>
                  </a:lnTo>
                  <a:lnTo>
                    <a:pt x="543" y="2861"/>
                  </a:lnTo>
                  <a:lnTo>
                    <a:pt x="574" y="2864"/>
                  </a:lnTo>
                  <a:lnTo>
                    <a:pt x="608" y="2861"/>
                  </a:lnTo>
                  <a:lnTo>
                    <a:pt x="676" y="2842"/>
                  </a:lnTo>
                  <a:lnTo>
                    <a:pt x="707" y="2830"/>
                  </a:lnTo>
                  <a:lnTo>
                    <a:pt x="759" y="2799"/>
                  </a:lnTo>
                  <a:lnTo>
                    <a:pt x="775" y="2787"/>
                  </a:lnTo>
                  <a:lnTo>
                    <a:pt x="787" y="2771"/>
                  </a:lnTo>
                  <a:lnTo>
                    <a:pt x="793" y="2755"/>
                  </a:lnTo>
                  <a:lnTo>
                    <a:pt x="797" y="2739"/>
                  </a:lnTo>
                  <a:lnTo>
                    <a:pt x="797" y="2721"/>
                  </a:lnTo>
                  <a:lnTo>
                    <a:pt x="785" y="2685"/>
                  </a:lnTo>
                  <a:lnTo>
                    <a:pt x="772" y="2669"/>
                  </a:lnTo>
                  <a:lnTo>
                    <a:pt x="757" y="2657"/>
                  </a:lnTo>
                  <a:lnTo>
                    <a:pt x="704" y="2637"/>
                  </a:lnTo>
                  <a:lnTo>
                    <a:pt x="670" y="2631"/>
                  </a:lnTo>
                  <a:lnTo>
                    <a:pt x="515" y="2610"/>
                  </a:lnTo>
                  <a:lnTo>
                    <a:pt x="438" y="2579"/>
                  </a:lnTo>
                  <a:lnTo>
                    <a:pt x="395" y="2551"/>
                  </a:lnTo>
                  <a:lnTo>
                    <a:pt x="376" y="2536"/>
                  </a:lnTo>
                  <a:lnTo>
                    <a:pt x="348" y="2502"/>
                  </a:lnTo>
                  <a:lnTo>
                    <a:pt x="334" y="2458"/>
                  </a:lnTo>
                  <a:lnTo>
                    <a:pt x="336" y="2386"/>
                  </a:lnTo>
                  <a:lnTo>
                    <a:pt x="342" y="2358"/>
                  </a:lnTo>
                  <a:lnTo>
                    <a:pt x="376" y="2257"/>
                  </a:lnTo>
                  <a:lnTo>
                    <a:pt x="417" y="2169"/>
                  </a:lnTo>
                  <a:lnTo>
                    <a:pt x="531" y="1965"/>
                  </a:lnTo>
                  <a:lnTo>
                    <a:pt x="580" y="1838"/>
                  </a:lnTo>
                  <a:lnTo>
                    <a:pt x="686" y="1432"/>
                  </a:lnTo>
                  <a:lnTo>
                    <a:pt x="738" y="1150"/>
                  </a:lnTo>
                  <a:lnTo>
                    <a:pt x="831" y="341"/>
                  </a:lnTo>
                  <a:lnTo>
                    <a:pt x="825" y="186"/>
                  </a:lnTo>
                  <a:lnTo>
                    <a:pt x="805" y="108"/>
                  </a:lnTo>
                  <a:lnTo>
                    <a:pt x="793" y="80"/>
                  </a:lnTo>
                  <a:lnTo>
                    <a:pt x="763" y="40"/>
                  </a:lnTo>
                  <a:lnTo>
                    <a:pt x="729" y="12"/>
                  </a:lnTo>
                  <a:lnTo>
                    <a:pt x="707" y="4"/>
                  </a:lnTo>
                  <a:lnTo>
                    <a:pt x="682" y="0"/>
                  </a:lnTo>
                  <a:lnTo>
                    <a:pt x="658" y="0"/>
                  </a:lnTo>
                  <a:lnTo>
                    <a:pt x="608" y="16"/>
                  </a:lnTo>
                  <a:lnTo>
                    <a:pt x="584" y="32"/>
                  </a:lnTo>
                  <a:lnTo>
                    <a:pt x="562" y="54"/>
                  </a:lnTo>
                  <a:lnTo>
                    <a:pt x="521" y="118"/>
                  </a:lnTo>
                  <a:lnTo>
                    <a:pt x="469" y="261"/>
                  </a:lnTo>
                  <a:lnTo>
                    <a:pt x="454" y="317"/>
                  </a:lnTo>
                  <a:lnTo>
                    <a:pt x="426" y="481"/>
                  </a:lnTo>
                  <a:lnTo>
                    <a:pt x="454" y="1379"/>
                  </a:lnTo>
                  <a:lnTo>
                    <a:pt x="445" y="1473"/>
                  </a:lnTo>
                  <a:lnTo>
                    <a:pt x="420" y="1537"/>
                  </a:lnTo>
                  <a:lnTo>
                    <a:pt x="374" y="1609"/>
                  </a:lnTo>
                  <a:lnTo>
                    <a:pt x="348" y="1661"/>
                  </a:lnTo>
                  <a:lnTo>
                    <a:pt x="189" y="2263"/>
                  </a:lnTo>
                  <a:lnTo>
                    <a:pt x="142" y="2372"/>
                  </a:lnTo>
                  <a:lnTo>
                    <a:pt x="117" y="2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520560" y="4129200"/>
            <a:ext cx="247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Coordinates &amp; trains appointed Trusted Agent(s) regarding their responsibil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5400000">
            <a:off x="1451520" y="3647160"/>
            <a:ext cx="576360" cy="355680"/>
          </a:xfrm>
          <a:prstGeom prst="rightArrow">
            <a:avLst>
              <a:gd name="adj1" fmla="val 50000"/>
              <a:gd name="adj2" fmla="val 4051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3314520" y="3214800"/>
            <a:ext cx="12600" cy="300024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3416040" y="3233880"/>
            <a:ext cx="5613480" cy="237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14040" bIns="-14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6280" y="5878440"/>
            <a:ext cx="24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Assists Army customers with various PKI problems &amp; iss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5400000">
            <a:off x="1483560" y="5444280"/>
            <a:ext cx="537840" cy="355680"/>
          </a:xfrm>
          <a:prstGeom prst="rightArrow">
            <a:avLst>
              <a:gd name="adj1" fmla="val 50000"/>
              <a:gd name="adj2" fmla="val 3780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1784-C96B-4379-9B7C-8AE9F0747A1C}" type="slidenum">
              <a:t>22</a:t>
            </a:fld>
          </a:p>
        </p:txBody>
      </p:sp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63360" y="1328760"/>
            <a:ext cx="5803920" cy="5119920"/>
            <a:chOff x="63360" y="1328760"/>
            <a:chExt cx="5803920" cy="5119920"/>
          </a:xfrm>
        </p:grpSpPr>
        <p:grpSp>
          <p:nvGrpSpPr>
            <p:cNvPr id="610" name=""/>
            <p:cNvGrpSpPr/>
            <p:nvPr/>
          </p:nvGrpSpPr>
          <p:grpSpPr>
            <a:xfrm>
              <a:off x="63360" y="1328760"/>
              <a:ext cx="5803920" cy="309240"/>
              <a:chOff x="63360" y="1328760"/>
              <a:chExt cx="5803920" cy="30924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63360" y="1328760"/>
                <a:ext cx="5803920" cy="294480"/>
                <a:chOff x="63360" y="1328760"/>
                <a:chExt cx="5803920" cy="2944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63360" y="1328760"/>
                  <a:ext cx="111348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625400" y="132876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3189240" y="132876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MADS Profil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53440" y="132876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207800" y="1474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771640" y="1474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334040" y="1474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4770720" y="136152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3360" y="1861920"/>
              <a:ext cx="5803920" cy="309240"/>
              <a:chOff x="63360" y="1861920"/>
              <a:chExt cx="5803920" cy="30924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63360" y="1861920"/>
                <a:ext cx="5803920" cy="294480"/>
                <a:chOff x="63360" y="1861920"/>
                <a:chExt cx="5803920" cy="29448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63360" y="1861920"/>
                  <a:ext cx="111348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O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625400" y="18619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3189240" y="18619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MADS Profil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753440" y="18619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207800" y="20080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771640" y="20080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334040" y="20080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" name=""/>
              <p:cNvSpPr/>
              <p:nvPr/>
            </p:nvSpPr>
            <p:spPr>
              <a:xfrm>
                <a:off x="4770720" y="189468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63360" y="2396520"/>
              <a:ext cx="5803920" cy="309240"/>
              <a:chOff x="63360" y="2396520"/>
              <a:chExt cx="5803920" cy="309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63360" y="2396520"/>
                <a:ext cx="5803920" cy="294480"/>
                <a:chOff x="63360" y="2396520"/>
                <a:chExt cx="5803920" cy="29448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3360" y="2396520"/>
                  <a:ext cx="111348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BI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625400" y="23965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189240" y="23965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MADS Profil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753440" y="2396520"/>
                  <a:ext cx="1113840" cy="294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207800" y="25426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771640" y="25426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334040" y="254268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>
                <a:off x="4770720" y="242928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63360" y="2931120"/>
              <a:ext cx="5803920" cy="310680"/>
              <a:chOff x="63360" y="2931120"/>
              <a:chExt cx="5803920" cy="310680"/>
            </a:xfrm>
          </p:grpSpPr>
          <p:grpSp>
            <p:nvGrpSpPr>
              <p:cNvPr id="641" name=""/>
              <p:cNvGrpSpPr/>
              <p:nvPr/>
            </p:nvGrpSpPr>
            <p:grpSpPr>
              <a:xfrm>
                <a:off x="63360" y="2931120"/>
                <a:ext cx="5803920" cy="294120"/>
                <a:chOff x="63360" y="2931120"/>
                <a:chExt cx="5803920" cy="2941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3360" y="2931120"/>
                  <a:ext cx="1113480" cy="294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H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625400" y="2931120"/>
                  <a:ext cx="1113840" cy="294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189240" y="2931120"/>
                  <a:ext cx="1113840" cy="294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MADS Profil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753440" y="2931120"/>
                  <a:ext cx="1113840" cy="294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207800" y="3076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771640" y="3076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334040" y="3076920"/>
                  <a:ext cx="386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9" name=""/>
              <p:cNvSpPr/>
              <p:nvPr/>
            </p:nvSpPr>
            <p:spPr>
              <a:xfrm>
                <a:off x="4770720" y="296532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63360" y="6139080"/>
              <a:ext cx="5803560" cy="309600"/>
              <a:chOff x="63360" y="6139080"/>
              <a:chExt cx="5803560" cy="309600"/>
            </a:xfrm>
          </p:grpSpPr>
          <p:sp>
            <p:nvSpPr>
              <p:cNvPr id="651" name=""/>
              <p:cNvSpPr/>
              <p:nvPr/>
            </p:nvSpPr>
            <p:spPr>
              <a:xfrm>
                <a:off x="63360" y="6139080"/>
                <a:ext cx="111384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ther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25760" y="61390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IG / 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53440" y="61390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207800" y="628560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782800" y="628560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825080" y="61722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3360" y="3465720"/>
              <a:ext cx="5803560" cy="309600"/>
              <a:chOff x="63360" y="3465720"/>
              <a:chExt cx="5803560" cy="309600"/>
            </a:xfrm>
          </p:grpSpPr>
          <p:sp>
            <p:nvSpPr>
              <p:cNvPr id="658" name=""/>
              <p:cNvSpPr/>
              <p:nvPr/>
            </p:nvSpPr>
            <p:spPr>
              <a:xfrm>
                <a:off x="63360" y="3465720"/>
                <a:ext cx="111384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IA &amp; NMJIC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625760" y="3465720"/>
                <a:ext cx="111348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IG / 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753440" y="3465720"/>
                <a:ext cx="111348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207800" y="361224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782800" y="361224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825080" y="349884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63360" y="4000680"/>
              <a:ext cx="5803560" cy="307800"/>
              <a:chOff x="63360" y="4000680"/>
              <a:chExt cx="5803560" cy="307800"/>
            </a:xfrm>
          </p:grpSpPr>
          <p:sp>
            <p:nvSpPr>
              <p:cNvPr id="665" name=""/>
              <p:cNvSpPr/>
              <p:nvPr/>
            </p:nvSpPr>
            <p:spPr>
              <a:xfrm>
                <a:off x="63360" y="4000680"/>
                <a:ext cx="111384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S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625760" y="4000680"/>
                <a:ext cx="111348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P Profiler</a:t>
                </a:r>
                <a:r>
                  <a:rPr b="1" lang="en-US" sz="1200" spc="-1" strike="noStrike" baseline="30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753440" y="4000680"/>
                <a:ext cx="1113480" cy="29412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07800" y="414684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782800" y="414684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825080" y="40320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63360" y="4535280"/>
              <a:ext cx="5803560" cy="309600"/>
              <a:chOff x="63360" y="4535280"/>
              <a:chExt cx="5803560" cy="309600"/>
            </a:xfrm>
          </p:grpSpPr>
          <p:sp>
            <p:nvSpPr>
              <p:cNvPr id="672" name=""/>
              <p:cNvSpPr/>
              <p:nvPr/>
            </p:nvSpPr>
            <p:spPr>
              <a:xfrm>
                <a:off x="63360" y="4535280"/>
                <a:ext cx="111384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IM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25760" y="45352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S Profiler</a:t>
                </a:r>
                <a:r>
                  <a:rPr b="1" lang="en-US" sz="1200" spc="-1" strike="noStrike" baseline="30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53440" y="45352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207800" y="468180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82800" y="468180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825080" y="45684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63360" y="5069880"/>
              <a:ext cx="5803560" cy="309600"/>
              <a:chOff x="63360" y="5069880"/>
              <a:chExt cx="5803560" cy="309600"/>
            </a:xfrm>
          </p:grpSpPr>
          <p:sp>
            <p:nvSpPr>
              <p:cNvPr id="679" name=""/>
              <p:cNvSpPr/>
              <p:nvPr/>
            </p:nvSpPr>
            <p:spPr>
              <a:xfrm>
                <a:off x="63360" y="5069880"/>
                <a:ext cx="1113840" cy="29484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mmand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25760" y="5069880"/>
                <a:ext cx="1113480" cy="29484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IG / D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53440" y="5069880"/>
                <a:ext cx="1113480" cy="29484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207800" y="521640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82800" y="521640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25080" y="51030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63360" y="5604480"/>
              <a:ext cx="5803560" cy="309600"/>
              <a:chOff x="63360" y="5604480"/>
              <a:chExt cx="5803560" cy="309600"/>
            </a:xfrm>
          </p:grpSpPr>
          <p:sp>
            <p:nvSpPr>
              <p:cNvPr id="686" name=""/>
              <p:cNvSpPr/>
              <p:nvPr/>
            </p:nvSpPr>
            <p:spPr>
              <a:xfrm>
                <a:off x="63360" y="5604480"/>
                <a:ext cx="111384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BI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625760" y="56044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BIS Profiler</a:t>
                </a:r>
                <a:r>
                  <a:rPr b="1" lang="en-US" sz="1200" spc="-1" strike="noStrike" baseline="30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53440" y="5604480"/>
                <a:ext cx="1113480" cy="294480"/>
              </a:xfrm>
              <a:prstGeom prst="roundRect">
                <a:avLst>
                  <a:gd name="adj" fmla="val 16667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07800" y="5751000"/>
                <a:ext cx="386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82800" y="5751000"/>
                <a:ext cx="1934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825080" y="563760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rmy Uni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"/>
          <p:cNvSpPr/>
          <p:nvPr/>
        </p:nvSpPr>
        <p:spPr>
          <a:xfrm>
            <a:off x="-38160" y="6462720"/>
            <a:ext cx="7188120" cy="608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3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IMAD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Intelligence Message Automated Dissemination System; </a:t>
            </a: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SEP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SIGINT End Products;              </a:t>
            </a:r>
            <a:br>
              <a:rPr sz="900"/>
            </a:b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NE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National Exploitation System; </a:t>
            </a: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DAG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DSSCS Addressee Group; </a:t>
            </a: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AIG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Addressee Indicating Grou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Notes: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9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SCI only; </a:t>
            </a:r>
            <a:r>
              <a:rPr b="0" lang="en-US" sz="9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Collateral Only; </a:t>
            </a:r>
            <a:r>
              <a:rPr b="0" lang="en-US" sz="900" spc="-1" strike="noStrike">
                <a:solidFill>
                  <a:srgbClr val="ff3300"/>
                </a:solidFill>
                <a:latin typeface="Verdana"/>
              </a:rPr>
              <a:t>Others</a:t>
            </a: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= SCI &amp; Collater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324480" y="1463760"/>
            <a:ext cx="2590920" cy="38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Verdana"/>
              </a:rPr>
              <a:t>To receive Intelligence Message Traffic, Army units must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Activate / Update their Compartmented Address Book (CAB) en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Activate / Update their Statement of Intelligence Interest (SI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Send request to DA IIS to activate IMADS profile, SEP profile, NES profile, and others a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DA IIS POC:  Benito Torres or Tom Link @ DSN: 235-1524/229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2560" y="65160"/>
            <a:ext cx="8380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Intelligence Message Traffic Flow to Army Uni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109224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A2D8-AE79-415A-9E3F-4036B3D4B85C}" type="slidenum">
              <a:t>23</a:t>
            </a:fld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1143000" y="1974960"/>
            <a:ext cx="7318440" cy="379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06360" y="4548240"/>
            <a:ext cx="14004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90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00"/>
                </a:solidFill>
                <a:latin typeface="Verdana"/>
              </a:rPr>
              <a:t>JWICS </a:t>
            </a:r>
            <a:br>
              <a:rPr sz="1800"/>
            </a:br>
            <a:r>
              <a:rPr b="1" lang="en-US" sz="1800" spc="-1" strike="noStrike">
                <a:solidFill>
                  <a:srgbClr val="cccc00"/>
                </a:solidFill>
                <a:latin typeface="Verdana"/>
              </a:rPr>
              <a:t>&amp;</a:t>
            </a:r>
            <a:br>
              <a:rPr sz="1800"/>
            </a:br>
            <a:r>
              <a:rPr b="1" lang="en-US" sz="1800" spc="-1" strike="noStrike">
                <a:solidFill>
                  <a:srgbClr val="cccc00"/>
                </a:solidFill>
                <a:latin typeface="Verdana"/>
              </a:rPr>
              <a:t>Stone G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193760" y="3481560"/>
            <a:ext cx="14637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9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SIPRN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     &amp;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ENTRIX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68560" y="2184480"/>
            <a:ext cx="1463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96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NIP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O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48600" y="2000160"/>
            <a:ext cx="11206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532480" y="2000160"/>
            <a:ext cx="14619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86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T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68720" y="2000160"/>
            <a:ext cx="1463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 DPM 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619360" y="2025720"/>
            <a:ext cx="14619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K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238880" y="2352600"/>
            <a:ext cx="74952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15200" y="3102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13560" y="3102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65960" y="252108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337520" y="2384280"/>
            <a:ext cx="15228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86720" y="31370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86720" y="3081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608960" y="3052800"/>
            <a:ext cx="30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32840" y="2895480"/>
            <a:ext cx="16164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50120" y="240192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50120" y="240192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350120" y="248904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350120" y="25718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350120" y="265572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50120" y="273996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351560" y="2422440"/>
            <a:ext cx="12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66040" y="2422440"/>
            <a:ext cx="93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13480" y="2503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37320" y="3022560"/>
            <a:ext cx="22716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650000" y="3024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585200" y="261612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943600" y="4648320"/>
            <a:ext cx="749160" cy="81576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19920" y="53974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18280" y="53974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70680" y="481644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041880" y="4680000"/>
            <a:ext cx="152640" cy="47772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391440" y="543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91440" y="53769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313320" y="534816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37200" y="5191200"/>
            <a:ext cx="162000" cy="22212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054840" y="4697280"/>
            <a:ext cx="12672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54840" y="4697280"/>
            <a:ext cx="126720" cy="3204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054840" y="4784760"/>
            <a:ext cx="12672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54840" y="4867200"/>
            <a:ext cx="12672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054840" y="4951440"/>
            <a:ext cx="12672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54840" y="5035680"/>
            <a:ext cx="12672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056280" y="471816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170760" y="4718160"/>
            <a:ext cx="93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118200" y="4799160"/>
            <a:ext cx="38160" cy="3636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42040" y="5318280"/>
            <a:ext cx="22716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354720" y="53193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289560" y="491184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19720" y="3495600"/>
            <a:ext cx="74916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95680" y="4245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694400" y="4245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546440" y="366408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518000" y="3527280"/>
            <a:ext cx="15228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67200" y="4280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67200" y="42242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789440" y="41958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13320" y="4038480"/>
            <a:ext cx="16200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30600" y="354492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30600" y="354492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530600" y="363204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30600" y="37148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530600" y="379872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30600" y="388296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532400" y="356544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46520" y="3565440"/>
            <a:ext cx="97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594320" y="3646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18160" y="4165560"/>
            <a:ext cx="22680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830840" y="4167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765680" y="375912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419720" y="2352600"/>
            <a:ext cx="74916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95680" y="3102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94400" y="3102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46440" y="252108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18000" y="2384280"/>
            <a:ext cx="15228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7200" y="3137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67200" y="30812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89440" y="30528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13320" y="2895480"/>
            <a:ext cx="16200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30600" y="240192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530600" y="240192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30600" y="248904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30600" y="25718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30600" y="265572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30600" y="273996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532400" y="242244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46520" y="2422440"/>
            <a:ext cx="97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94320" y="2503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718160" y="3022560"/>
            <a:ext cx="22680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4830840" y="3024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65680" y="261612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8120" y="3571920"/>
            <a:ext cx="749160" cy="81576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24080" y="43210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22800" y="43210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74840" y="374004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46400" y="3603600"/>
            <a:ext cx="152280" cy="47772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495600" y="435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95600" y="43005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417840" y="427212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141720" y="4114800"/>
            <a:ext cx="162000" cy="22212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159000" y="3621240"/>
            <a:ext cx="127080" cy="680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59000" y="362124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59000" y="370836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159000" y="379080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59000" y="387504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59000" y="395928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3160800" y="364176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74920" y="3641760"/>
            <a:ext cx="97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222720" y="3722760"/>
            <a:ext cx="38160" cy="3636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46560" y="4241880"/>
            <a:ext cx="22680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459240" y="4243320"/>
            <a:ext cx="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394080" y="383544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67280" y="3495600"/>
            <a:ext cx="74952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4245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41960" y="4245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94360" y="3664080"/>
            <a:ext cx="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65920" y="3527280"/>
            <a:ext cx="15228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15120" y="42800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15120" y="42242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237360" y="4195800"/>
            <a:ext cx="30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961240" y="4038480"/>
            <a:ext cx="16164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978520" y="354492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978520" y="3544920"/>
            <a:ext cx="12708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78520" y="363204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978520" y="37148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78520" y="379872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978520" y="388296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5979960" y="3565440"/>
            <a:ext cx="12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94440" y="3565440"/>
            <a:ext cx="93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041880" y="3646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65720" y="4165560"/>
            <a:ext cx="22716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6278400" y="4167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213600" y="375912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66880" y="1960560"/>
            <a:ext cx="7920" cy="378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38480" y="1960560"/>
            <a:ext cx="1800" cy="379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343320"/>
            <a:ext cx="731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6360" bIns="-36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4486320"/>
            <a:ext cx="7315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6360" bIns="-36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800440" y="6019920"/>
            <a:ext cx="42670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ith Access to NS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60920" y="1960560"/>
            <a:ext cx="1800" cy="379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81560" y="4638600"/>
            <a:ext cx="749160" cy="81612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57880" y="5388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56240" y="5388120"/>
            <a:ext cx="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508640" y="480708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479840" y="4670280"/>
            <a:ext cx="152640" cy="47808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29040" y="54230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29040" y="53672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751280" y="53388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75160" y="5181480"/>
            <a:ext cx="162000" cy="22248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92800" y="4687920"/>
            <a:ext cx="12672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92800" y="4687920"/>
            <a:ext cx="126720" cy="3168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492800" y="4775040"/>
            <a:ext cx="12672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492800" y="4857840"/>
            <a:ext cx="12672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492800" y="4941720"/>
            <a:ext cx="12672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492800" y="5025960"/>
            <a:ext cx="12672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494240" y="4708440"/>
            <a:ext cx="1260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08360" y="4708440"/>
            <a:ext cx="97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56160" y="4789440"/>
            <a:ext cx="38160" cy="3672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80000" y="5308560"/>
            <a:ext cx="22680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792680" y="53100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740120" y="4921200"/>
            <a:ext cx="34164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2362320"/>
            <a:ext cx="749520" cy="815760"/>
          </a:xfrm>
          <a:custGeom>
            <a:avLst/>
            <a:gdLst/>
            <a:ahLst/>
            <a:rect l="l" t="t" r="r" b="b"/>
            <a:pathLst>
              <a:path w="545" h="436">
                <a:moveTo>
                  <a:pt x="0" y="435"/>
                </a:moveTo>
                <a:lnTo>
                  <a:pt x="0" y="425"/>
                </a:lnTo>
                <a:lnTo>
                  <a:pt x="55" y="399"/>
                </a:lnTo>
                <a:lnTo>
                  <a:pt x="55" y="0"/>
                </a:lnTo>
                <a:lnTo>
                  <a:pt x="200" y="0"/>
                </a:lnTo>
                <a:lnTo>
                  <a:pt x="200" y="399"/>
                </a:lnTo>
                <a:lnTo>
                  <a:pt x="258" y="425"/>
                </a:lnTo>
                <a:lnTo>
                  <a:pt x="258" y="435"/>
                </a:lnTo>
                <a:lnTo>
                  <a:pt x="0" y="435"/>
                </a:lnTo>
                <a:lnTo>
                  <a:pt x="217" y="374"/>
                </a:lnTo>
                <a:lnTo>
                  <a:pt x="268" y="374"/>
                </a:lnTo>
                <a:lnTo>
                  <a:pt x="325" y="389"/>
                </a:lnTo>
                <a:lnTo>
                  <a:pt x="325" y="419"/>
                </a:lnTo>
                <a:lnTo>
                  <a:pt x="268" y="419"/>
                </a:lnTo>
                <a:lnTo>
                  <a:pt x="268" y="435"/>
                </a:lnTo>
                <a:lnTo>
                  <a:pt x="493" y="435"/>
                </a:lnTo>
                <a:lnTo>
                  <a:pt x="493" y="419"/>
                </a:lnTo>
                <a:lnTo>
                  <a:pt x="436" y="419"/>
                </a:lnTo>
                <a:lnTo>
                  <a:pt x="436" y="389"/>
                </a:lnTo>
                <a:lnTo>
                  <a:pt x="493" y="374"/>
                </a:lnTo>
                <a:lnTo>
                  <a:pt x="544" y="374"/>
                </a:lnTo>
                <a:lnTo>
                  <a:pt x="544" y="109"/>
                </a:lnTo>
                <a:lnTo>
                  <a:pt x="217" y="109"/>
                </a:lnTo>
                <a:lnTo>
                  <a:pt x="217" y="374"/>
                </a:lnTo>
                <a:lnTo>
                  <a:pt x="0" y="4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060720" y="31114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59080" y="3111480"/>
            <a:ext cx="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111480" y="2530440"/>
            <a:ext cx="9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083040" y="2394000"/>
            <a:ext cx="152280" cy="477720"/>
          </a:xfrm>
          <a:custGeom>
            <a:avLst/>
            <a:gdLst/>
            <a:ahLst/>
            <a:rect l="l" t="t" r="r" b="b"/>
            <a:pathLst>
              <a:path w="110" h="255">
                <a:moveTo>
                  <a:pt x="0" y="0"/>
                </a:moveTo>
                <a:lnTo>
                  <a:pt x="109" y="0"/>
                </a:lnTo>
                <a:lnTo>
                  <a:pt x="109" y="254"/>
                </a:lnTo>
                <a:lnTo>
                  <a:pt x="0" y="25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432240" y="3146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432240" y="30909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354480" y="3062160"/>
            <a:ext cx="30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078000" y="2905200"/>
            <a:ext cx="162000" cy="22212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0" y="73"/>
                </a:moveTo>
                <a:lnTo>
                  <a:pt x="9" y="73"/>
                </a:lnTo>
                <a:lnTo>
                  <a:pt x="9" y="0"/>
                </a:ln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lnTo>
                  <a:pt x="28" y="73"/>
                </a:lnTo>
                <a:lnTo>
                  <a:pt x="28" y="0"/>
                </a:lnTo>
                <a:lnTo>
                  <a:pt x="19" y="0"/>
                </a:lnTo>
                <a:lnTo>
                  <a:pt x="19" y="73"/>
                </a:lnTo>
                <a:lnTo>
                  <a:pt x="36" y="73"/>
                </a:lnTo>
                <a:lnTo>
                  <a:pt x="45" y="73"/>
                </a:lnTo>
                <a:lnTo>
                  <a:pt x="45" y="0"/>
                </a:lnTo>
                <a:lnTo>
                  <a:pt x="36" y="0"/>
                </a:lnTo>
                <a:lnTo>
                  <a:pt x="36" y="73"/>
                </a:lnTo>
                <a:lnTo>
                  <a:pt x="55" y="73"/>
                </a:lnTo>
                <a:lnTo>
                  <a:pt x="64" y="73"/>
                </a:lnTo>
                <a:lnTo>
                  <a:pt x="64" y="0"/>
                </a:lnTo>
                <a:lnTo>
                  <a:pt x="55" y="0"/>
                </a:lnTo>
                <a:lnTo>
                  <a:pt x="55" y="73"/>
                </a:lnTo>
                <a:lnTo>
                  <a:pt x="73" y="73"/>
                </a:lnTo>
                <a:lnTo>
                  <a:pt x="81" y="73"/>
                </a:lnTo>
                <a:lnTo>
                  <a:pt x="81" y="0"/>
                </a:lnTo>
                <a:lnTo>
                  <a:pt x="73" y="0"/>
                </a:lnTo>
                <a:lnTo>
                  <a:pt x="73" y="73"/>
                </a:lnTo>
                <a:lnTo>
                  <a:pt x="91" y="73"/>
                </a:lnTo>
                <a:lnTo>
                  <a:pt x="100" y="73"/>
                </a:lnTo>
                <a:lnTo>
                  <a:pt x="100" y="0"/>
                </a:lnTo>
                <a:lnTo>
                  <a:pt x="91" y="0"/>
                </a:lnTo>
                <a:lnTo>
                  <a:pt x="91" y="73"/>
                </a:lnTo>
                <a:lnTo>
                  <a:pt x="109" y="73"/>
                </a:lnTo>
                <a:lnTo>
                  <a:pt x="117" y="73"/>
                </a:lnTo>
                <a:lnTo>
                  <a:pt x="117" y="0"/>
                </a:lnTo>
                <a:lnTo>
                  <a:pt x="109" y="0"/>
                </a:lnTo>
                <a:lnTo>
                  <a:pt x="109" y="73"/>
                </a:lnTo>
                <a:lnTo>
                  <a:pt x="109" y="118"/>
                </a:lnTo>
                <a:lnTo>
                  <a:pt x="117" y="118"/>
                </a:lnTo>
                <a:lnTo>
                  <a:pt x="117" y="81"/>
                </a:lnTo>
                <a:lnTo>
                  <a:pt x="109" y="81"/>
                </a:lnTo>
                <a:lnTo>
                  <a:pt x="109" y="118"/>
                </a:lnTo>
                <a:lnTo>
                  <a:pt x="91" y="118"/>
                </a:lnTo>
                <a:lnTo>
                  <a:pt x="100" y="118"/>
                </a:lnTo>
                <a:lnTo>
                  <a:pt x="100" y="81"/>
                </a:lnTo>
                <a:lnTo>
                  <a:pt x="91" y="81"/>
                </a:lnTo>
                <a:lnTo>
                  <a:pt x="91" y="118"/>
                </a:lnTo>
                <a:lnTo>
                  <a:pt x="73" y="118"/>
                </a:lnTo>
                <a:lnTo>
                  <a:pt x="81" y="118"/>
                </a:lnTo>
                <a:lnTo>
                  <a:pt x="81" y="81"/>
                </a:lnTo>
                <a:lnTo>
                  <a:pt x="73" y="81"/>
                </a:lnTo>
                <a:lnTo>
                  <a:pt x="73" y="118"/>
                </a:lnTo>
                <a:lnTo>
                  <a:pt x="55" y="118"/>
                </a:lnTo>
                <a:lnTo>
                  <a:pt x="64" y="118"/>
                </a:lnTo>
                <a:lnTo>
                  <a:pt x="64" y="81"/>
                </a:lnTo>
                <a:lnTo>
                  <a:pt x="55" y="81"/>
                </a:lnTo>
                <a:lnTo>
                  <a:pt x="55" y="118"/>
                </a:lnTo>
                <a:lnTo>
                  <a:pt x="36" y="118"/>
                </a:lnTo>
                <a:lnTo>
                  <a:pt x="45" y="118"/>
                </a:lnTo>
                <a:lnTo>
                  <a:pt x="45" y="81"/>
                </a:lnTo>
                <a:lnTo>
                  <a:pt x="36" y="81"/>
                </a:lnTo>
                <a:lnTo>
                  <a:pt x="36" y="118"/>
                </a:lnTo>
                <a:lnTo>
                  <a:pt x="19" y="118"/>
                </a:lnTo>
                <a:lnTo>
                  <a:pt x="28" y="118"/>
                </a:lnTo>
                <a:lnTo>
                  <a:pt x="28" y="81"/>
                </a:lnTo>
                <a:lnTo>
                  <a:pt x="19" y="81"/>
                </a:lnTo>
                <a:lnTo>
                  <a:pt x="19" y="118"/>
                </a:lnTo>
                <a:lnTo>
                  <a:pt x="0" y="118"/>
                </a:lnTo>
                <a:lnTo>
                  <a:pt x="9" y="118"/>
                </a:lnTo>
                <a:lnTo>
                  <a:pt x="9" y="81"/>
                </a:lnTo>
                <a:lnTo>
                  <a:pt x="0" y="81"/>
                </a:lnTo>
                <a:lnTo>
                  <a:pt x="0" y="118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95640" y="2411280"/>
            <a:ext cx="127080" cy="6840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0"/>
                </a:moveTo>
                <a:lnTo>
                  <a:pt x="0" y="36"/>
                </a:ln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95640" y="2411280"/>
            <a:ext cx="127080" cy="32040"/>
          </a:xfrm>
          <a:custGeom>
            <a:avLst/>
            <a:gdLst/>
            <a:ahLst/>
            <a:rect l="l" t="t" r="r" b="b"/>
            <a:pathLst>
              <a:path w="92" h="17">
                <a:moveTo>
                  <a:pt x="0" y="0"/>
                </a:moveTo>
                <a:lnTo>
                  <a:pt x="10" y="16"/>
                </a:lnTo>
                <a:lnTo>
                  <a:pt x="83" y="16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95640" y="2498760"/>
            <a:ext cx="127080" cy="69840"/>
          </a:xfrm>
          <a:custGeom>
            <a:avLst/>
            <a:gdLst/>
            <a:ahLst/>
            <a:rect l="l" t="t" r="r" b="b"/>
            <a:pathLst>
              <a:path w="92" h="37">
                <a:moveTo>
                  <a:pt x="0" y="36"/>
                </a:moveTo>
                <a:lnTo>
                  <a:pt x="91" y="36"/>
                </a:lnTo>
                <a:lnTo>
                  <a:pt x="91" y="0"/>
                </a:lnTo>
                <a:lnTo>
                  <a:pt x="0" y="0"/>
                </a:lnTo>
                <a:lnTo>
                  <a:pt x="0" y="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95640" y="2581200"/>
            <a:ext cx="127080" cy="7164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95640" y="266544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95640" y="2749680"/>
            <a:ext cx="127080" cy="71280"/>
          </a:xfrm>
          <a:custGeom>
            <a:avLst/>
            <a:gdLst/>
            <a:ahLst/>
            <a:rect l="l" t="t" r="r" b="b"/>
            <a:pathLst>
              <a:path w="92" h="38">
                <a:moveTo>
                  <a:pt x="0" y="37"/>
                </a:moveTo>
                <a:lnTo>
                  <a:pt x="91" y="37"/>
                </a:lnTo>
                <a:lnTo>
                  <a:pt x="91" y="0"/>
                </a:lnTo>
                <a:lnTo>
                  <a:pt x="0" y="0"/>
                </a:lnTo>
                <a:lnTo>
                  <a:pt x="0" y="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3097080" y="2432160"/>
            <a:ext cx="12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11560" y="2432160"/>
            <a:ext cx="93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59000" y="2513160"/>
            <a:ext cx="38160" cy="36360"/>
          </a:xfrm>
          <a:custGeom>
            <a:avLst/>
            <a:gdLst/>
            <a:ahLst/>
            <a:rect l="l" t="t" r="r" b="b"/>
            <a:pathLst>
              <a:path w="28" h="19">
                <a:moveTo>
                  <a:pt x="0" y="18"/>
                </a:moveTo>
                <a:lnTo>
                  <a:pt x="27" y="18"/>
                </a:lnTo>
                <a:lnTo>
                  <a:pt x="27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82840" y="3032280"/>
            <a:ext cx="227160" cy="31680"/>
          </a:xfrm>
          <a:custGeom>
            <a:avLst/>
            <a:gdLst/>
            <a:ahLst/>
            <a:rect l="l" t="t" r="r" b="b"/>
            <a:pathLst>
              <a:path w="165" h="17">
                <a:moveTo>
                  <a:pt x="0" y="0"/>
                </a:moveTo>
                <a:lnTo>
                  <a:pt x="164" y="0"/>
                </a:lnTo>
                <a:lnTo>
                  <a:pt x="164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3395520" y="303336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330720" y="2625840"/>
            <a:ext cx="341280" cy="33660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DAD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6880" y="102960"/>
            <a:ext cx="7999560" cy="17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Delivering the Information to the customer utilizing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Multiple Network Connections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9" name=""/>
          <p:cNvSpPr/>
          <p:nvPr/>
        </p:nvSpPr>
        <p:spPr>
          <a:xfrm>
            <a:off x="7097760" y="1960560"/>
            <a:ext cx="1440" cy="378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342A-0BDB-4D5A-9E46-5BAE45A6CCD6}" type="slidenum">
              <a:t>24</a:t>
            </a:fld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8924760" y="138240"/>
            <a:ext cx="0" cy="85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7360" y="1006560"/>
            <a:ext cx="0" cy="59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17360" y="1598760"/>
            <a:ext cx="0" cy="5448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90880" y="1230480"/>
            <a:ext cx="27000" cy="55735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470320" y="1527120"/>
            <a:ext cx="664344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Commercial: 703-706-2278 / 1082 / 1524 / 13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DSN: 235-2278 / 1082 / 1524 / 13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fr-FR" sz="1800" spc="-1" strike="noStrike">
                <a:solidFill>
                  <a:srgbClr val="ffffcc"/>
                </a:solidFill>
                <a:latin typeface="Verdana"/>
              </a:rPr>
              <a:t>NSTS: 964-2278 / 1082 / 1524 / 13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9000" y="1542960"/>
            <a:ext cx="21477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Verdana"/>
              </a:rPr>
              <a:t>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6" name="Group 8"/>
          <p:cNvGrpSpPr/>
          <p:nvPr/>
        </p:nvGrpSpPr>
        <p:grpSpPr>
          <a:xfrm>
            <a:off x="217440" y="2935440"/>
            <a:ext cx="8612280" cy="1461600"/>
            <a:chOff x="217440" y="2935440"/>
            <a:chExt cx="8612280" cy="1461600"/>
          </a:xfrm>
        </p:grpSpPr>
        <p:grpSp>
          <p:nvGrpSpPr>
            <p:cNvPr id="887" name=""/>
            <p:cNvGrpSpPr/>
            <p:nvPr/>
          </p:nvGrpSpPr>
          <p:grpSpPr>
            <a:xfrm>
              <a:off x="217440" y="2935440"/>
              <a:ext cx="8612280" cy="1461600"/>
              <a:chOff x="217440" y="2935440"/>
              <a:chExt cx="8612280" cy="1461600"/>
            </a:xfrm>
          </p:grpSpPr>
          <p:sp>
            <p:nvSpPr>
              <p:cNvPr id="888" name=""/>
              <p:cNvSpPr/>
              <p:nvPr/>
            </p:nvSpPr>
            <p:spPr>
              <a:xfrm>
                <a:off x="2473200" y="2935440"/>
                <a:ext cx="6356520" cy="14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buSzPct val="100000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JWICS: dadpm3@inscom.ic.gov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buSzPct val="100000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SIPRNET: dadpm@inscom.army.smil.mi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buSzPct val="100000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 </a:t>
                </a:r>
                <a:r>
                  <a:rPr b="0" lang="en-US" sz="1800" spc="-1" strike="noStrike">
                    <a:solidFill>
                      <a:srgbClr val="ffffcc"/>
                    </a:solidFill>
                    <a:latin typeface="Verdana"/>
                  </a:rPr>
                  <a:t>NIPRNET: dadpm@inscom.army.mi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7440" y="2940120"/>
                <a:ext cx="2151000" cy="145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Verdana"/>
                  </a:rPr>
                  <a:t>E-Mail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890" name="" descr=""/>
            <p:cNvPicPr/>
            <p:nvPr/>
          </p:nvPicPr>
          <p:blipFill>
            <a:blip r:embed="rId7"/>
            <a:srcRect l="0" t="0" r="0" b="12897"/>
            <a:stretch/>
          </p:blipFill>
          <p:spPr>
            <a:xfrm>
              <a:off x="1108080" y="3419640"/>
              <a:ext cx="54936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1" name=""/>
          <p:cNvGrpSpPr/>
          <p:nvPr/>
        </p:nvGrpSpPr>
        <p:grpSpPr>
          <a:xfrm>
            <a:off x="210960" y="4203720"/>
            <a:ext cx="8894880" cy="2298600"/>
            <a:chOff x="210960" y="4203720"/>
            <a:chExt cx="8894880" cy="2298600"/>
          </a:xfrm>
        </p:grpSpPr>
        <p:sp>
          <p:nvSpPr>
            <p:cNvPr id="892" name=""/>
            <p:cNvSpPr/>
            <p:nvPr/>
          </p:nvSpPr>
          <p:spPr>
            <a:xfrm>
              <a:off x="2387520" y="4203720"/>
              <a:ext cx="6718320" cy="22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JWICS: http://dadpm.inscom.ic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DC Portal: http://idcportal.inscom.ic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SIPRNET: http://dadpm.inscom.army.smil.mi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Portal:  http://www.portal.inscom.army.smil.mi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CENTRIXS: http://dadpm.inscom.mcfi.cmil.mi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AKO: https://akocomm.us.army.mil/dadp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OSIS: http://dadpm.inscom.osis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0960" y="4495680"/>
              <a:ext cx="138456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Verdana"/>
                </a:rPr>
                <a:t>On the 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4" name="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 rot="534600">
              <a:off x="1093320" y="5183280"/>
              <a:ext cx="405000" cy="365040"/>
            </a:xfrm>
            <a:prstGeom prst="rect">
              <a:avLst/>
            </a:prstGeom>
            <a:ln w="0">
              <a:noFill/>
            </a:ln>
            <a:effectLst>
              <a:outerShdw dist="36147" dir="2700000" blurRad="0" rotWithShape="0">
                <a:srgbClr val="808080"/>
              </a:outerShdw>
            </a:effectLst>
          </p:spPr>
        </p:pic>
      </p:grpSp>
      <p:sp>
        <p:nvSpPr>
          <p:cNvPr id="895" name=""/>
          <p:cNvSpPr/>
          <p:nvPr/>
        </p:nvSpPr>
        <p:spPr>
          <a:xfrm>
            <a:off x="649440" y="1300320"/>
            <a:ext cx="7770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560" y="1219320"/>
            <a:ext cx="90802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095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Questions &amp; Contact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7"/>
          <a:stretch/>
        </p:blipFill>
        <p:spPr>
          <a:xfrm>
            <a:off x="1055520" y="1954080"/>
            <a:ext cx="617760" cy="658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5FF4-4E0B-4B4B-A95A-5647340A34A1}" type="slidenum">
              <a:t>25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7240" y="-23760"/>
            <a:ext cx="777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ur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6920" y="1743120"/>
            <a:ext cx="8866080" cy="4397400"/>
            <a:chOff x="196920" y="1743120"/>
            <a:chExt cx="8866080" cy="4397400"/>
          </a:xfrm>
        </p:grpSpPr>
        <p:sp>
          <p:nvSpPr>
            <p:cNvPr id="97" name=""/>
            <p:cNvSpPr/>
            <p:nvPr/>
          </p:nvSpPr>
          <p:spPr>
            <a:xfrm>
              <a:off x="1755720" y="2846520"/>
              <a:ext cx="56800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6240" y="2181240"/>
              <a:ext cx="6120" cy="641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65600" y="2808360"/>
              <a:ext cx="28800" cy="241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068640" y="1898640"/>
              <a:ext cx="3048120" cy="465120"/>
              <a:chOff x="3068640" y="1898640"/>
              <a:chExt cx="3048120" cy="465120"/>
            </a:xfrm>
          </p:grpSpPr>
          <p:sp>
            <p:nvSpPr>
              <p:cNvPr id="101" name=""/>
              <p:cNvSpPr/>
              <p:nvPr/>
            </p:nvSpPr>
            <p:spPr>
              <a:xfrm>
                <a:off x="3068640" y="2363760"/>
                <a:ext cx="30481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68640" y="1898640"/>
                <a:ext cx="0" cy="4572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116760" y="1901880"/>
                <a:ext cx="0" cy="4572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5259240" y="1752480"/>
              <a:ext cx="1690920" cy="365400"/>
            </a:xfrm>
            <a:prstGeom prst="roundRect">
              <a:avLst>
                <a:gd name="adj" fmla="val 16667"/>
              </a:avLst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CS G2 Pentag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95840" y="2171880"/>
              <a:ext cx="1690560" cy="365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r Boswel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vision Chief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20840" y="1743120"/>
              <a:ext cx="1690920" cy="365040"/>
            </a:xfrm>
            <a:prstGeom prst="roundRect">
              <a:avLst>
                <a:gd name="adj" fmla="val 16667"/>
              </a:avLst>
            </a:prstGeom>
            <a:solidFill>
              <a:srgbClr val="003399"/>
            </a:solidFill>
            <a:ln cap="sq" w="12600">
              <a:solidFill>
                <a:srgbClr val="003399"/>
              </a:solidFill>
              <a:miter/>
            </a:ln>
            <a:effectLst>
              <a:outerShdw dist="153753" dir="2700000" blurRad="0" rotWithShape="0">
                <a:srgbClr val="00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SCOM Deputy G3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52800" y="4608360"/>
              <a:ext cx="141768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Link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ess Manag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49560" y="3857760"/>
              <a:ext cx="141768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s Dress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quirements Manag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2800" y="4229280"/>
              <a:ext cx="141768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s Guevara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Requirements Manag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41840" y="2925720"/>
              <a:ext cx="1828800" cy="4748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duction Requirements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ccess Managem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6040" y="4984920"/>
              <a:ext cx="141768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Drawdy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ess Manag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49560" y="3467160"/>
              <a:ext cx="141768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Torres-Aroch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9080" y="3846600"/>
              <a:ext cx="4680" cy="173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755360" y="2847960"/>
              <a:ext cx="12600" cy="9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901800" y="3846600"/>
              <a:ext cx="23760" cy="20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" y="400680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s Cooper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r. Web Developer/Graphic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14400" y="2943360"/>
              <a:ext cx="1687680" cy="457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lligence Web Service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Information Technology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92240" y="3467160"/>
              <a:ext cx="131616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Foley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2400" y="401004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Hunt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gration Adviso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600" y="473400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Hirmas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eb Develop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240" y="4367160"/>
              <a:ext cx="141732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Smith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rebuchet MS"/>
                </a:rPr>
                <a:t>Senior Portal Develope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20960" y="512136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Jenkins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stems Engine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20960" y="439272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Argis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r. Web Developer .ne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4200" y="5492880"/>
              <a:ext cx="141732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Hall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stems Security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920" y="510552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Ward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COM Web Develop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6000" y="548964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Davidson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COM Web Develop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22400" y="475452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Murray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ystems Security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1160" y="3848040"/>
              <a:ext cx="17319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34280" y="3828960"/>
              <a:ext cx="15840" cy="106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89800" y="3832200"/>
              <a:ext cx="1440" cy="135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2560" y="2847960"/>
              <a:ext cx="7920" cy="9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73760" y="438948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Almonte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45320" y="438300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Shultz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69080" y="4008600"/>
              <a:ext cx="141768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Ellis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73760" y="515772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Durham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75200" y="478296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Dyson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560" y="400356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Corazza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560" y="477360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Ruzinok (C)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lligence/Ops Analys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75400" y="3832200"/>
              <a:ext cx="1671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75400" y="2944800"/>
              <a:ext cx="1687680" cy="45720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Knowledge Manageme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Intelligence Analysts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62600" y="3468600"/>
              <a:ext cx="131616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Brustma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am Lead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6920" y="5870520"/>
              <a:ext cx="1417680" cy="27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r Goosey (C)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r. Web Developer - R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61B4-8F90-469A-B263-B3D1EE55B893}" type="slidenum">
              <a:t>3</a:t>
            </a:fld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75760" y="1382400"/>
            <a:ext cx="8271000" cy="5257800"/>
          </a:xfrm>
          <a:prstGeom prst="rect">
            <a:avLst/>
          </a:prstGeom>
          <a:noFill/>
          <a:ln w="0">
            <a:noFill/>
          </a:ln>
        </p:spPr>
        <p:txBody>
          <a:bodyPr lIns="75600" rIns="75600" tIns="37800" bIns="37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Activities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Create a “One-Stop-Shop” for Army Customer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Ensure nuggets of Intelligence Information are visible to the customer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Ensure Army customers get access to and can find the needed IC information quickly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Train customers via phone, e-mail, online, or on-site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Contact customers to ensure they understand our </a:t>
            </a:r>
            <a:br>
              <a:rPr sz="1800"/>
            </a:b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role in supporting them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Impact</a:t>
            </a:r>
            <a:endParaRPr b="1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Customers are not required to be an expert on 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   “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how to request or receive intelligence”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We bring or offer effective solutions to your issues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Bottom line—Reduce your administrative burden</a:t>
            </a:r>
            <a:endParaRPr b="1" lang="en-US" sz="1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45680" y="103320"/>
            <a:ext cx="83170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Our Customer Service Program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07964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FCCC-A812-4FDE-8B05-82D7B874889D}" type="slidenum">
              <a:t>4</a:t>
            </a:fld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6560" y="3606840"/>
            <a:ext cx="10800" cy="1272960"/>
          </a:xfrm>
          <a:prstGeom prst="line">
            <a:avLst/>
          </a:prstGeom>
          <a:ln w="633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664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02400" y="3568680"/>
            <a:ext cx="11160" cy="1273320"/>
          </a:xfrm>
          <a:prstGeom prst="line">
            <a:avLst/>
          </a:prstGeom>
          <a:ln w="63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0400" y="730080"/>
            <a:ext cx="168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73160" y="540720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3320" y="43149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6840" y="32637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6840" y="2254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6840" y="121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960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924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4640" y="2955960"/>
            <a:ext cx="978120" cy="636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66"/>
              </a:gs>
              <a:gs pos="100000">
                <a:srgbClr val="00c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S G-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480" y="5397480"/>
            <a:ext cx="479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6840" y="4307040"/>
            <a:ext cx="488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06360"/>
            <a:ext cx="645840" cy="170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241720"/>
            <a:ext cx="468360" cy="728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867280" y="3568680"/>
            <a:ext cx="381240" cy="73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867280" y="3621240"/>
            <a:ext cx="577800" cy="17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123192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53280" y="176544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2298600"/>
            <a:ext cx="168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898800"/>
            <a:ext cx="168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283212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53280" y="336564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53280" y="443232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153280" y="4965840"/>
            <a:ext cx="168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153280" y="5498640"/>
            <a:ext cx="174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2760" y="-12960"/>
            <a:ext cx="778320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Supporting the Warfighter &amp; IC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8229600" y="2643120"/>
            <a:ext cx="762120" cy="493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MD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210996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M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9600" y="157644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AD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477684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ORS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29600" y="317664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USARS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29600" y="1055520"/>
            <a:ext cx="762120" cy="493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TAFF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29600" y="4243320"/>
            <a:ext cx="762120" cy="493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SAREU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29600" y="371016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USARPA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531036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USASO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3060720"/>
            <a:ext cx="914400" cy="0"/>
          </a:xfrm>
          <a:prstGeom prst="line">
            <a:avLst/>
          </a:prstGeom>
          <a:ln w="7632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238880" y="3365640"/>
            <a:ext cx="914400" cy="0"/>
          </a:xfrm>
          <a:prstGeom prst="line">
            <a:avLst/>
          </a:prstGeom>
          <a:ln w="7632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27560" y="624852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153280" y="6108840"/>
            <a:ext cx="174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48200" y="449892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A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9800" y="14000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DO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48200" y="343836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NG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7240" y="559584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SOC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5160" y="140004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5680" y="14000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D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7000" y="14000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SS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98960" y="140004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NS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8200" y="140004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12175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12175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2175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21752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416400"/>
            <a:ext cx="685800" cy="60300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MS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5680" y="343836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MC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5160" y="343836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AFM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98960" y="343836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NAS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240" y="32655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416400"/>
            <a:ext cx="687600" cy="60300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ONI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5160" y="244152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NG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5680" y="24415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OAS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GUAR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7000" y="24415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TRAN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98960" y="244152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CIS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9800" y="24415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FC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456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9800" y="44989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IF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5160" y="4498920"/>
            <a:ext cx="68436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GCH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(UK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98960" y="449892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4</a:t>
            </a:r>
            <a:r>
              <a:rPr b="0" lang="en-US" sz="900" spc="-1" strike="noStrike" baseline="30000">
                <a:solidFill>
                  <a:srgbClr val="333333"/>
                </a:solidFill>
                <a:latin typeface="Verdana"/>
              </a:rPr>
              <a:t>TH </a:t>
            </a: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PO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7000" y="44989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ARC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5680" y="449892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MO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(CAN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9800" y="55958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A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48200" y="559584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PA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98960" y="559584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C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7000" y="5595840"/>
            <a:ext cx="6858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STRA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5595840"/>
            <a:ext cx="68760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J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SOUTH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1772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0216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5140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2160" y="3255840"/>
            <a:ext cx="5256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24172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120636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924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59240" y="12171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225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3024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9240" y="431640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540396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29600" y="533520"/>
            <a:ext cx="762120" cy="493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T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29600" y="5843520"/>
            <a:ext cx="758880" cy="493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NS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48600" y="722160"/>
            <a:ext cx="4680" cy="538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8200" y="2441520"/>
            <a:ext cx="687240" cy="603360"/>
          </a:xfrm>
          <a:prstGeom prst="bevel">
            <a:avLst>
              <a:gd name="adj" fmla="val 12500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5240" rIns="7524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Verdana"/>
              </a:rPr>
              <a:t>AC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34040" y="4875120"/>
            <a:ext cx="1216080" cy="7606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IF &amp; OE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actic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F2FE-6581-4972-888D-DC3887E3D0DC}" type="slidenum">
              <a:t>5</a:t>
            </a:fld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6760" y="47520"/>
            <a:ext cx="8101080" cy="8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Intelligence Web/Portal Services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248" name="Picture 17" descr=""/>
          <p:cNvPicPr/>
          <p:nvPr/>
        </p:nvPicPr>
        <p:blipFill>
          <a:blip r:embed="rId1"/>
          <a:stretch/>
        </p:blipFill>
        <p:spPr>
          <a:xfrm>
            <a:off x="5997600" y="3989520"/>
            <a:ext cx="2824200" cy="1830240"/>
          </a:xfrm>
          <a:prstGeom prst="rect">
            <a:avLst/>
          </a:prstGeom>
          <a:ln w="76320">
            <a:solidFill>
              <a:srgbClr val="cc99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9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2120" y="1204920"/>
            <a:ext cx="78804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rmAutofit fontScale="99000"/>
          </a:bodyPr>
          <a:p>
            <a:pPr lvl="1" marL="507240" indent="-393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Develop and host customizable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web portals for external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240" indent="-393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Portal technology supports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documents libraries,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discussion boards, lists, 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RSS feeds, and much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240" indent="-393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Sites are scaleable and </a:t>
            </a: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can be configur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Open—all users have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Verdana"/>
              </a:rPr>
              <a:t>Closed—selected user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07240" indent="-393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90000"/>
              <a:buFont typeface="Wingdings" charset="2"/>
              <a:buChar char=""/>
              <a:tabLst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Verdana"/>
              </a:rPr>
              <a:t>Organization Imp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Manage site and data from any </a:t>
            </a:r>
            <a:br>
              <a:rPr sz="1800"/>
            </a:b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SIPRNET/JWICS web conn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Minimal user “know how” experience requi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040" indent="-28440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858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Provide content management and IT Sup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4" descr=""/>
          <p:cNvPicPr/>
          <p:nvPr/>
        </p:nvPicPr>
        <p:blipFill>
          <a:blip r:embed="rId2"/>
          <a:stretch/>
        </p:blipFill>
        <p:spPr>
          <a:xfrm>
            <a:off x="5983200" y="1903320"/>
            <a:ext cx="2824200" cy="1828800"/>
          </a:xfrm>
          <a:prstGeom prst="rect">
            <a:avLst/>
          </a:prstGeom>
          <a:ln w="76320">
            <a:solidFill>
              <a:srgbClr val="cc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81DB-9623-422D-8856-635D56328D3B}" type="slidenum">
              <a:t>6</a:t>
            </a:fld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7240" y="1080"/>
            <a:ext cx="77709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INSCOM IDC Portal</a:t>
            </a:r>
            <a:endParaRPr b="1" i="1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1520" y="1530000"/>
            <a:ext cx="8031240" cy="49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he INSCOM IDC Portal supports the Army's "Force Protection" and Homeland Security missions with real time I&amp;W of CT, CI, and IO by providing a web-based focal point for Intelligence exchanges, links, and collaboration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Delivers a user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friendly web-based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environment where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nalysts can rapidly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find, access, and use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nformation of all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ypes and classification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nstant account approval for SI/TK access</a:t>
            </a:r>
            <a:endParaRPr b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10" descr=""/>
          <p:cNvPicPr/>
          <p:nvPr/>
        </p:nvPicPr>
        <p:blipFill>
          <a:blip r:embed="rId1"/>
          <a:stretch/>
        </p:blipFill>
        <p:spPr>
          <a:xfrm>
            <a:off x="4738680" y="2913120"/>
            <a:ext cx="4043520" cy="2508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D04A-E3C7-4066-83E6-517EFFDA8153}" type="slidenum">
              <a:t>7</a:t>
            </a:fld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 flipH="1" rot="10748400">
            <a:off x="1218960" y="1599840"/>
            <a:ext cx="2995560" cy="3063960"/>
          </a:xfrm>
          <a:custGeom>
            <a:avLst/>
            <a:gdLst>
              <a:gd name="textAreaLeft" fmla="*/ -360 w 2995560"/>
              <a:gd name="textAreaRight" fmla="*/ 2995560 w 2995560"/>
              <a:gd name="textAreaTop" fmla="*/ 0 h 3063960"/>
              <a:gd name="textAreaBottom" fmla="*/ 3064320 h 3063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03520" y="3625920"/>
            <a:ext cx="68799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9800" y="1989000"/>
            <a:ext cx="62928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56240" y="3309840"/>
            <a:ext cx="29275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1013800">
            <a:off x="853920" y="2004840"/>
            <a:ext cx="1179720" cy="4417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JW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Group 7"/>
          <p:cNvGrpSpPr/>
          <p:nvPr/>
        </p:nvGrpSpPr>
        <p:grpSpPr>
          <a:xfrm>
            <a:off x="106200" y="2787480"/>
            <a:ext cx="2695680" cy="3373200"/>
            <a:chOff x="106200" y="2787480"/>
            <a:chExt cx="2695680" cy="3373200"/>
          </a:xfrm>
        </p:grpSpPr>
        <p:sp>
          <p:nvSpPr>
            <p:cNvPr id="262" name=""/>
            <p:cNvSpPr/>
            <p:nvPr/>
          </p:nvSpPr>
          <p:spPr>
            <a:xfrm>
              <a:off x="106200" y="5640480"/>
              <a:ext cx="264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Verdana"/>
                </a:rPr>
                <a:t>Message Traffic Profiles</a:t>
              </a:r>
              <a:br>
                <a:rPr sz="1400"/>
              </a:br>
              <a:r>
                <a:rPr b="1" lang="en-US" sz="1400" spc="-1" strike="noStrike">
                  <a:solidFill>
                    <a:srgbClr val="ffffcc"/>
                  </a:solidFill>
                  <a:latin typeface="Verdana"/>
                </a:rPr>
                <a:t>(Limited acces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3" name="Picture 9" descr=""/>
            <p:cNvPicPr/>
            <p:nvPr/>
          </p:nvPicPr>
          <p:blipFill>
            <a:blip r:embed="rId1"/>
            <a:stretch/>
          </p:blipFill>
          <p:spPr>
            <a:xfrm>
              <a:off x="358920" y="2787480"/>
              <a:ext cx="2442960" cy="269748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264" name=""/>
            <p:cNvSpPr/>
            <p:nvPr/>
          </p:nvSpPr>
          <p:spPr>
            <a:xfrm>
              <a:off x="689040" y="3246480"/>
              <a:ext cx="174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rebuchet MS"/>
                </a:rPr>
                <a:t>TOP SECR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44600" y="3792600"/>
              <a:ext cx="2274480" cy="350280"/>
              <a:chOff x="444600" y="3792600"/>
              <a:chExt cx="2274480" cy="350280"/>
            </a:xfrm>
          </p:grpSpPr>
          <p:sp>
            <p:nvSpPr>
              <p:cNvPr id="266" name=""/>
              <p:cNvSpPr/>
              <p:nvPr/>
            </p:nvSpPr>
            <p:spPr>
              <a:xfrm>
                <a:off x="444600" y="3950280"/>
                <a:ext cx="75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049760" y="3792600"/>
                <a:ext cx="1063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rebuchet MS"/>
                  </a:rPr>
                  <a:t>TEARLIN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0000"/>
                    </a:solidFill>
                    <a:latin typeface="Trebuchet MS"/>
                  </a:rPr>
                  <a:t>SECRE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65600" y="3950280"/>
                <a:ext cx="75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44600" y="4361040"/>
              <a:ext cx="2274480" cy="350280"/>
              <a:chOff x="444600" y="4361040"/>
              <a:chExt cx="2274480" cy="350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44600" y="4678200"/>
                <a:ext cx="75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064880" y="4361040"/>
                <a:ext cx="1063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37800" bIns="37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0000"/>
                    </a:solidFill>
                    <a:latin typeface="Trebuchet MS"/>
                  </a:rPr>
                  <a:t>SECRET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Trebuchet MS"/>
                  </a:rPr>
                  <a:t>TEARLINE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65600" y="4678200"/>
                <a:ext cx="753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600" rIns="756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674640" y="5192640"/>
              <a:ext cx="174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rebuchet MS"/>
                </a:rPr>
                <a:t>TOP SECR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90600" y="3807000"/>
            <a:ext cx="2400120" cy="942840"/>
          </a:xfrm>
          <a:prstGeom prst="rect">
            <a:avLst/>
          </a:prstGeom>
          <a:solidFill>
            <a:srgbClr val="ffffcc">
              <a:alpha val="70000"/>
            </a:srgbClr>
          </a:solidFill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95480" y="4863960"/>
            <a:ext cx="32641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Extracts collateral TEARLINE message from limited access mess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637000" y="1481040"/>
            <a:ext cx="2233440" cy="761760"/>
            <a:chOff x="2637000" y="1481040"/>
            <a:chExt cx="2233440" cy="761760"/>
          </a:xfrm>
        </p:grpSpPr>
        <p:pic>
          <p:nvPicPr>
            <p:cNvPr id="277" name="" descr=""/>
            <p:cNvPicPr/>
            <p:nvPr/>
          </p:nvPicPr>
          <p:blipFill>
            <a:blip r:embed="rId2">
              <a:alphaModFix amt="70000"/>
            </a:blip>
            <a:srcRect l="4058" t="37833" r="5178" b="28803"/>
            <a:stretch/>
          </p:blipFill>
          <p:spPr>
            <a:xfrm>
              <a:off x="2637000" y="1491120"/>
              <a:ext cx="2233440" cy="75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78" name=""/>
            <p:cNvSpPr/>
            <p:nvPr/>
          </p:nvSpPr>
          <p:spPr>
            <a:xfrm>
              <a:off x="2638080" y="1481040"/>
              <a:ext cx="2218320" cy="745560"/>
            </a:xfrm>
            <a:prstGeom prst="rect">
              <a:avLst/>
            </a:prstGeom>
            <a:solidFill>
              <a:srgbClr val="ffffcc">
                <a:alpha val="70000"/>
              </a:srgbClr>
            </a:solidFill>
            <a:ln w="63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5600" rIns="75600" tIns="37800" bIns="37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9" name="Picture 25" descr=""/>
          <p:cNvPicPr/>
          <p:nvPr/>
        </p:nvPicPr>
        <p:blipFill>
          <a:blip r:embed="rId3"/>
          <a:stretch/>
        </p:blipFill>
        <p:spPr>
          <a:xfrm>
            <a:off x="6167520" y="3460680"/>
            <a:ext cx="2435040" cy="2124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0" name=""/>
          <p:cNvSpPr/>
          <p:nvPr/>
        </p:nvSpPr>
        <p:spPr>
          <a:xfrm rot="339600">
            <a:off x="5468400" y="1377720"/>
            <a:ext cx="3489480" cy="441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PRNET &amp; CENTRIX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1270080"/>
            <a:ext cx="12960" cy="3124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5621400">
            <a:off x="7851240" y="3057480"/>
            <a:ext cx="1833840" cy="573120"/>
          </a:xfrm>
          <a:custGeom>
            <a:avLst/>
            <a:gdLst>
              <a:gd name="textAreaLeft" fmla="*/ 320760 w 1833840"/>
              <a:gd name="textAreaRight" fmla="*/ 1329480 w 18338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99"/>
          </a:solidFill>
          <a:ln w="63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29" descr=""/>
          <p:cNvPicPr/>
          <p:nvPr/>
        </p:nvPicPr>
        <p:blipFill>
          <a:blip r:embed="rId4"/>
          <a:stretch/>
        </p:blipFill>
        <p:spPr>
          <a:xfrm>
            <a:off x="5556240" y="2062080"/>
            <a:ext cx="3276720" cy="119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4" name=""/>
          <p:cNvSpPr/>
          <p:nvPr/>
        </p:nvSpPr>
        <p:spPr>
          <a:xfrm>
            <a:off x="2908440" y="5560920"/>
            <a:ext cx="32637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Semi-automated process to migrate TEARLINE messages to JWICS, STONEGHOST, SIPRNET, and CENTRIXS consum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9520" y="5751360"/>
            <a:ext cx="269208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ffffcc"/>
                </a:solidFill>
                <a:latin typeface="Verdana"/>
              </a:rPr>
              <a:t>Provide exportable database forma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25400" y="63000"/>
            <a:ext cx="777096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Verdana"/>
              </a:rPr>
              <a:t>Intelligence Tearline Reporting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0159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8764-A92F-44AB-9F86-D199663B5FF7}" type="slidenum">
              <a:t>8</a:t>
            </a:fld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8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739ab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990720"/>
            <a:ext cx="908064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560" y="65160"/>
            <a:ext cx="8380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Verdana"/>
              </a:rPr>
              <a:t>SIPRNET Message Traff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Object 21" descr=""/>
          <p:cNvPicPr/>
          <p:nvPr/>
        </p:nvPicPr>
        <p:blipFill>
          <a:blip r:embed="rId1"/>
          <a:stretch/>
        </p:blipFill>
        <p:spPr>
          <a:xfrm>
            <a:off x="6292800" y="4087800"/>
            <a:ext cx="2579760" cy="1657440"/>
          </a:xfrm>
          <a:prstGeom prst="rect">
            <a:avLst/>
          </a:prstGeom>
          <a:ln w="76320">
            <a:solidFill>
              <a:srgbClr val="003399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3657600" y="4762440"/>
            <a:ext cx="237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2680" y="1228680"/>
            <a:ext cx="8291520" cy="4765320"/>
            <a:chOff x="382680" y="1228680"/>
            <a:chExt cx="8291520" cy="4765320"/>
          </a:xfrm>
        </p:grpSpPr>
        <p:sp>
          <p:nvSpPr>
            <p:cNvPr id="293" name=""/>
            <p:cNvSpPr/>
            <p:nvPr/>
          </p:nvSpPr>
          <p:spPr>
            <a:xfrm>
              <a:off x="382680" y="1228680"/>
              <a:ext cx="8291520" cy="47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 u="sng">
                  <a:solidFill>
                    <a:srgbClr val="ffff00"/>
                  </a:solidFill>
                  <a:uFillTx/>
                  <a:latin typeface="Verdana"/>
                </a:rPr>
                <a:t>GISA /DA IIS SIPRNET M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buClr>
                  <a:srgbClr val="ff33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The Multimedia Message Manager (M3) is the standard message handling system for the Intelligence Community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buClr>
                  <a:srgbClr val="ff33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The M3 provides: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001"/>
                </a:spcBef>
                <a:buClr>
                  <a:srgbClr val="ff3300"/>
                </a:buClr>
                <a:buSzPct val="9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Real-time dissemination of message traffic;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Retrospective information searches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600" spc="-1" strike="noStrike">
                  <a:solidFill>
                    <a:srgbClr val="ffffcc"/>
                  </a:solidFill>
                  <a:latin typeface="Verdana"/>
                </a:rPr>
                <a:t>Message composition, coordination, and releas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SIPRNET M3 accounts provide access to Army G2 Collateral Message Traffic (including 314’s &amp; ORCON Dat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Message Traffic Sources include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C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DODSPEC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FB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OIF/OEF tactical II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F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22120" y="4519800"/>
              <a:ext cx="2280600" cy="14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0" rIns="75600" tIns="37800" bIns="37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ST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DIA II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BICE, an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80000"/>
                </a:lnSpc>
                <a:spcBef>
                  <a:spcPts val="876"/>
                </a:spcBef>
                <a:buClr>
                  <a:srgbClr val="ff33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other Operational </a:t>
              </a:r>
              <a:br>
                <a:rPr sz="1400"/>
              </a:b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Related Mess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16080" y="5965560"/>
            <a:ext cx="8564400" cy="2890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 more information, visit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– http://dadpm.inscom.army.smil.mil/gisa_m3.h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2E2A-79C9-43CD-80A4-481B385CBC8D}" type="slidenum">
              <a:t>9</a:t>
            </a:fld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9T05:29:48Z</dcterms:created>
  <dc:creator>Thomas Link</dc:creator>
  <dc:description>1-July-2005
tom.link@us.army.mil
DSN 235-2294</dc:description>
  <cp:keywords>INTEL</cp:keywords>
  <dc:language>en-US</dc:language>
  <cp:lastModifiedBy>d6x7n0</cp:lastModifiedBy>
  <cp:lastPrinted>2000-03-07T20:29:46Z</cp:lastPrinted>
  <dcterms:modified xsi:type="dcterms:W3CDTF">2005-07-12T10:06:34Z</dcterms:modified>
  <cp:revision>1556</cp:revision>
  <dc:subject>DA IIS Mission Brief</dc:subject>
  <dc:title>DA IIS Mission Brie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Y:\IAOP\DISSEM\Power Point Slid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772819845</vt:r8>
  </property>
  <property fmtid="{D5CDD505-2E9C-101B-9397-08002B2CF9AE}" pid="23" name="_AuthorEmail">
    <vt:lpwstr>timothy.j.smith@usps.gov</vt:lpwstr>
  </property>
  <property fmtid="{D5CDD505-2E9C-101B-9397-08002B2CF9AE}" pid="24" name="_AuthorEmailDisplayName">
    <vt:lpwstr>Smith, Timothy J - Federal Way, WA</vt:lpwstr>
  </property>
  <property fmtid="{D5CDD505-2E9C-101B-9397-08002B2CF9AE}" pid="25" name="_EmailSubject">
    <vt:lpwstr>mission_brief[1].ppt</vt:lpwstr>
  </property>
</Properties>
</file>